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68D-1B17-49E8-8A6E-241CF9E9A0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BE7-DDC0-49DB-A117-D07595A091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B7F-45B3-4F42-947F-A88226974F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F6E-7B36-42F0-9518-3DEE3A8F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151-57BA-4820-887B-6DBB231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F7F-1D6C-4B93-BDDF-50F3ECB4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976-ABE7-4575-A491-443C286A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916-2843-4EA2-A3FF-F5FE111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BCD-5673-415A-B759-3B0B7E6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BF5-6A40-42B2-AFC6-C1952F0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B65-99E3-43B3-9460-AF56B04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E81-8075-4B1E-A85A-5E4D092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F6C-7B4C-4BE8-BA55-DA13E565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965-47B7-47C4-A842-4B0229D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32F-F7ED-4CAC-8993-3C73D50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E93-1F3F-4D5B-B08F-F6C6C3DF3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d7e4bd"/>
          </a:solidFill>
          <a:ln w="57240">
            <a:solidFill>
              <a:srgbClr val="4f6228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практико-ориентированной задачи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Лист бумаги»</a:t>
            </a:r>
            <a:br>
              <a:rPr sz="5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№1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fdeada"/>
          </a:solidFill>
          <a:ln w="3816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« Математике должно учить ещ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с той целью, чтобы познания здесь приобретаемые, были достаточными для обыкновенных потребностей жизни». Н.И. Лобаче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solidFill>
            <a:srgbClr val="fcd5b5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0200" y="4005000"/>
            <a:ext cx="81741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ажер: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№2.7 – 4.5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1 прав.ответ - 1 бал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179280" y="115920"/>
            <a:ext cx="8785440" cy="6553080"/>
          </a:xfrm>
          <a:prstGeom prst="rect">
            <a:avLst/>
          </a:prstGeom>
          <a:solidFill>
            <a:srgbClr val="dbeef4"/>
          </a:solidFill>
          <a:ln w="381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981000"/>
          <a:ext cx="2232000" cy="377208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348000" y="981000"/>
          <a:ext cx="2232000" cy="42944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00720" y="981000"/>
          <a:ext cx="2232000" cy="32497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7246" t="37884" r="5512" b="25925"/>
          <a:stretch/>
        </p:blipFill>
        <p:spPr>
          <a:xfrm>
            <a:off x="108000" y="115920"/>
            <a:ext cx="8928000" cy="20494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7418" t="20659" r="5711" b="63730"/>
          <a:stretch/>
        </p:blipFill>
        <p:spPr>
          <a:xfrm>
            <a:off x="73080" y="2276640"/>
            <a:ext cx="8964720" cy="101916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7518" t="19444" r="5808" b="22825"/>
          <a:stretch/>
        </p:blipFill>
        <p:spPr>
          <a:xfrm>
            <a:off x="73080" y="3429000"/>
            <a:ext cx="8964720" cy="3303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 прав.ответ -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: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адание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35280" y="2492280"/>
          <a:ext cx="2232000" cy="325116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4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solidFill>
            <a:srgbClr val="d7e4bd"/>
          </a:solidFill>
          <a:ln w="38160">
            <a:solidFill>
              <a:srgbClr val="4f6228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те себя: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-23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алла -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-19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аллов -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-12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аллов -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524844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Gabriola"/>
              </a:rPr>
              <a:t>Спасибо за урок! До свидани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6986" t="9375" r="44292" b="24168"/>
          <a:stretch/>
        </p:blipFill>
        <p:spPr>
          <a:xfrm>
            <a:off x="2652840" y="549360"/>
            <a:ext cx="3978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9:56:46Z</dcterms:created>
  <dc:creator>hp-1</dc:creator>
  <dc:description/>
  <dc:language>en-US</dc:language>
  <cp:lastModifiedBy>Кабинет 9</cp:lastModifiedBy>
  <dcterms:modified xsi:type="dcterms:W3CDTF">2021-04-17T03:27:20Z</dcterms:modified>
  <cp:revision>22</cp:revision>
  <dc:subject/>
  <dc:title>Решение практико-ориентированных задач «Листы бумаги»  (№1-5)</dc:title>
</cp:coreProperties>
</file>