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4F4-FF0B-43F2-8DFA-882A5869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F7B-051B-41AD-8250-1191E9B9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A78-40CA-43E6-AE49-06993830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0F8-9471-4CB9-BCE9-FFA1542A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3F1-0830-4877-A70B-843A9F0F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7D3B-33F0-47CC-B063-0C6D34D8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A423-8C88-4F04-A3D7-6A4DAA37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7745-D009-4B9E-B47F-74C79476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E771-28E4-4406-B49D-A85519C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83D5-4E72-44D8-9FED-EFEE35CE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D1F2-1C8A-4A7C-A966-24C652C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3D5-138F-440C-B878-2A316A9C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E2B1-9E61-4AD5-A8A0-2B5D64DC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136E-6846-4B5E-AC36-4A5E312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1138-5CD0-4210-9C24-61D1EDE7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7690-A8B6-4A9E-BE26-077DD51F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EF66-7FAB-4EF2-875B-98FA042F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E20B-5827-43A6-9C06-93B45ABF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8A1C-2DEA-45E8-8005-0307648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740EF-7826-4965-8F6D-545CE328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ABA95-7BB0-4BCF-BF33-876E376A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52132-0D81-4846-AA52-2AF15263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5E7-756A-478F-9DD2-2C412926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A77A1-32FA-4C6B-80B2-7715E8F9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165B9-4530-40E2-A874-AB515081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14B4-8EF3-45BD-AE5D-D2E6718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68BC-96B7-40AA-8880-36F3B35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31BF-4D08-42B4-925F-6DCCA95A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DA26-212C-4BAE-B796-EFC0D480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0ED9-B47C-49AF-95BC-7A3B5ADD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F85-4526-4D15-A713-31C027FD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D5D-93BC-4E04-B472-E22E7D36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B69-EBFA-4F4E-BCCE-B1510974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183-CD26-482D-BEC6-A0633B6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DF54-C30E-41E3-A83C-73BE937C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3FC-788D-46B4-B8BC-0D2D5A2B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E79F00-BD54-445C-86B0-E7960BBD647F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92C814-E51F-4BFD-8FE5-3DD3BA4750D0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89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8E272-C5AC-4D4D-92CE-B207527D5D8E}" type="slidenum">
              <a:rPr b="0" lang="ru-RU" sz="1000" spc="-1" strike="noStrike">
                <a:solidFill>
                  <a:srgbClr val="a7a49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D:/disk%20D/sayti/ryl.az/public_html/krim%20konfrans/muslim_magomaev_-_azerbaydzhan.mp3" TargetMode="External"/><Relationship Id="rId3" Type="http://schemas.microsoft.com/office/2007/relationships/media" Target="file:///D:/disk%20D/sayti/ryl.az/public_html/krim%20konfrans/muslim_magomaev_-_azerbaydzhan.mp3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ff7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3"/>
          <p:cNvSpPr/>
          <p:nvPr/>
        </p:nvSpPr>
        <p:spPr>
          <a:xfrm>
            <a:off x="-139680" y="-41400"/>
            <a:ext cx="5563800" cy="6878160"/>
          </a:xfrm>
          <a:custGeom>
            <a:avLst/>
            <a:gdLst>
              <a:gd name="textAreaLeft" fmla="*/ 0 w 5563800"/>
              <a:gd name="textAreaRight" fmla="*/ 5564160 w 5563800"/>
              <a:gd name="textAreaTop" fmla="*/ 0 h 6878160"/>
              <a:gd name="textAreaBottom" fmla="*/ 6878520 h 6878160"/>
            </a:gdLst>
            <a:ahLst/>
            <a:rect l="textAreaLeft" t="textAreaTop" r="textAreaRight" b="textAreaBottom"/>
            <a:pathLst>
              <a:path w="5564306" h="6878782">
                <a:moveTo>
                  <a:pt x="327287" y="31173"/>
                </a:moveTo>
                <a:cubicBezTo>
                  <a:pt x="692751" y="1038700"/>
                  <a:pt x="3293482" y="175823"/>
                  <a:pt x="4338178" y="727364"/>
                </a:cubicBezTo>
                <a:cubicBezTo>
                  <a:pt x="2956211" y="379742"/>
                  <a:pt x="1479424" y="1055578"/>
                  <a:pt x="441587" y="904009"/>
                </a:cubicBezTo>
                <a:cubicBezTo>
                  <a:pt x="80534" y="993648"/>
                  <a:pt x="163661" y="1058591"/>
                  <a:pt x="129860" y="1184564"/>
                </a:cubicBezTo>
                <a:cubicBezTo>
                  <a:pt x="369742" y="1755213"/>
                  <a:pt x="2012365" y="663301"/>
                  <a:pt x="3164006" y="1672937"/>
                </a:cubicBezTo>
                <a:cubicBezTo>
                  <a:pt x="1693711" y="935194"/>
                  <a:pt x="1104033" y="2027539"/>
                  <a:pt x="140251" y="1922319"/>
                </a:cubicBezTo>
                <a:lnTo>
                  <a:pt x="129860" y="2441864"/>
                </a:lnTo>
                <a:cubicBezTo>
                  <a:pt x="2389924" y="1394136"/>
                  <a:pt x="3543293" y="2636274"/>
                  <a:pt x="5179842" y="2182091"/>
                </a:cubicBezTo>
                <a:cubicBezTo>
                  <a:pt x="4148989" y="2924628"/>
                  <a:pt x="1271166" y="2022780"/>
                  <a:pt x="1459896" y="2753591"/>
                </a:cubicBezTo>
                <a:cubicBezTo>
                  <a:pt x="1559946" y="3670592"/>
                  <a:pt x="3286104" y="2250932"/>
                  <a:pt x="5200624" y="3532909"/>
                </a:cubicBezTo>
                <a:cubicBezTo>
                  <a:pt x="3208606" y="2804678"/>
                  <a:pt x="2627173" y="3674056"/>
                  <a:pt x="1231296" y="3616037"/>
                </a:cubicBezTo>
                <a:cubicBezTo>
                  <a:pt x="163657" y="3383106"/>
                  <a:pt x="413071" y="3487882"/>
                  <a:pt x="140251" y="3501737"/>
                </a:cubicBezTo>
                <a:lnTo>
                  <a:pt x="119469" y="4177146"/>
                </a:lnTo>
                <a:cubicBezTo>
                  <a:pt x="426486" y="4103967"/>
                  <a:pt x="543791" y="4072366"/>
                  <a:pt x="1480678" y="4156364"/>
                </a:cubicBezTo>
                <a:cubicBezTo>
                  <a:pt x="2841887" y="4253346"/>
                  <a:pt x="3279608" y="5373826"/>
                  <a:pt x="5564306" y="4447309"/>
                </a:cubicBezTo>
                <a:cubicBezTo>
                  <a:pt x="3109890" y="5623639"/>
                  <a:pt x="2876524" y="4578928"/>
                  <a:pt x="1532633" y="4644737"/>
                </a:cubicBezTo>
                <a:cubicBezTo>
                  <a:pt x="519977" y="4710969"/>
                  <a:pt x="710045" y="5181157"/>
                  <a:pt x="711751" y="5143500"/>
                </a:cubicBezTo>
                <a:cubicBezTo>
                  <a:pt x="1110545" y="6159185"/>
                  <a:pt x="2443158" y="4427802"/>
                  <a:pt x="4358960" y="5860473"/>
                </a:cubicBezTo>
                <a:cubicBezTo>
                  <a:pt x="2956659" y="5324868"/>
                  <a:pt x="3011634" y="5750467"/>
                  <a:pt x="1449506" y="6244937"/>
                </a:cubicBezTo>
                <a:cubicBezTo>
                  <a:pt x="0" y="6458796"/>
                  <a:pt x="303937" y="6736317"/>
                  <a:pt x="140251" y="6878782"/>
                </a:cubicBezTo>
                <a:cubicBezTo>
                  <a:pt x="136787" y="4585855"/>
                  <a:pt x="133324" y="2292927"/>
                  <a:pt x="129860" y="0"/>
                </a:cubicBezTo>
                <a:lnTo>
                  <a:pt x="327287" y="31173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0"/>
          </a:gradFill>
          <a:ln>
            <a:noFill/>
          </a:ln>
          <a:effectLst>
            <a:outerShdw algn="l" blurRad="11448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Полилиния 4"/>
          <p:cNvSpPr/>
          <p:nvPr/>
        </p:nvSpPr>
        <p:spPr>
          <a:xfrm>
            <a:off x="2909880" y="1143000"/>
            <a:ext cx="1775880" cy="469440"/>
          </a:xfrm>
          <a:custGeom>
            <a:avLst/>
            <a:gdLst>
              <a:gd name="textAreaLeft" fmla="*/ 0 w 1775880"/>
              <a:gd name="textAreaRight" fmla="*/ 1776240 w 177588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776845" h="470187">
                <a:moveTo>
                  <a:pt x="0" y="155416"/>
                </a:moveTo>
                <a:cubicBezTo>
                  <a:pt x="676716" y="0"/>
                  <a:pt x="1184563" y="314743"/>
                  <a:pt x="1776845" y="394407"/>
                </a:cubicBezTo>
                <a:cubicBezTo>
                  <a:pt x="1391949" y="470187"/>
                  <a:pt x="1151229" y="414769"/>
                  <a:pt x="820881" y="352843"/>
                </a:cubicBezTo>
                <a:cubicBezTo>
                  <a:pt x="550915" y="286228"/>
                  <a:pt x="419648" y="241156"/>
                  <a:pt x="0" y="155416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9044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Полилиния 5"/>
          <p:cNvSpPr/>
          <p:nvPr/>
        </p:nvSpPr>
        <p:spPr>
          <a:xfrm>
            <a:off x="2571840" y="5630760"/>
            <a:ext cx="2133360" cy="8805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80560"/>
              <a:gd name="textAreaBottom" fmla="*/ 880920 h 880560"/>
            </a:gdLst>
            <a:ahLst/>
            <a:rect l="textAreaLeft" t="textAreaTop" r="textAreaRight" b="textAreaBottom"/>
            <a:pathLst>
              <a:path w="2134003" h="881050">
                <a:moveTo>
                  <a:pt x="0" y="668502"/>
                </a:moveTo>
                <a:cubicBezTo>
                  <a:pt x="993657" y="0"/>
                  <a:pt x="993604" y="861554"/>
                  <a:pt x="2134003" y="764593"/>
                </a:cubicBezTo>
                <a:cubicBezTo>
                  <a:pt x="1749107" y="840373"/>
                  <a:pt x="1613630" y="881050"/>
                  <a:pt x="820881" y="723029"/>
                </a:cubicBezTo>
                <a:cubicBezTo>
                  <a:pt x="550915" y="656414"/>
                  <a:pt x="536557" y="549001"/>
                  <a:pt x="0" y="668502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14480" rotWithShape="0" sx="98000" sy="98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135" name="Picture 9" descr="C:\Documents and Settings\Admin\Рабочий стол\untitled.gif"/>
          <p:cNvPicPr/>
          <p:nvPr/>
        </p:nvPicPr>
        <p:blipFill>
          <a:blip r:embed="rId1"/>
          <a:stretch/>
        </p:blipFill>
        <p:spPr>
          <a:xfrm>
            <a:off x="0" y="285840"/>
            <a:ext cx="5714640" cy="388728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1928880"/>
            <a:ext cx="8643600" cy="2571480"/>
          </a:xfrm>
          <a:prstGeom prst="rect">
            <a:avLst/>
          </a:prstGeom>
          <a:solidFill>
            <a:srgbClr val="ffffff">
              <a:alpha val="47000"/>
            </a:srgbClr>
          </a:solidFill>
          <a:ln w="57240">
            <a:solidFill>
              <a:srgbClr val="ffff00">
                <a:alpha val="58000"/>
              </a:srgbClr>
            </a:solidFill>
            <a:round/>
          </a:ln>
        </p:spPr>
        <p:txBody>
          <a:bodyPr lIns="45720" rIns="45720" t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7200" spc="-1" strike="noStrike">
                <a:solidFill>
                  <a:srgbClr val="c00000"/>
                </a:solidFill>
                <a:latin typeface="Verdana"/>
              </a:rPr>
              <a:t>АЗЕРБАЙДЖАН</a:t>
            </a:r>
            <a:r>
              <a:rPr b="1" lang="ru-RU" sz="7200" spc="-1" strike="noStrike">
                <a:solidFill>
                  <a:srgbClr val="ff9257"/>
                </a:solidFill>
                <a:latin typeface="Verdana"/>
              </a:rPr>
              <a:t> </a:t>
            </a:r>
            <a:br>
              <a:rPr sz="4500"/>
            </a:b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 СТРАНА ОГНЕЙ </a:t>
            </a:r>
            <a:endParaRPr b="0" lang="ru-RU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5712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100"/>
                            </p:stCondLst>
                            <p:childTnLst>
                              <p:par>
                                <p:cTn id="11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C:\Users\Дарина\Desktop\документы на почту\maxresdefault.jpg"/>
          <p:cNvPicPr/>
          <p:nvPr/>
        </p:nvPicPr>
        <p:blipFill>
          <a:blip r:embed="rId1"/>
          <a:stretch/>
        </p:blipFill>
        <p:spPr>
          <a:xfrm>
            <a:off x="5677920" y="12960"/>
            <a:ext cx="3465720" cy="3012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90" name="Picture 5" descr="C:\Users\Дарина\Desktop\документы на почту\17877.jpg"/>
          <p:cNvPicPr/>
          <p:nvPr/>
        </p:nvPicPr>
        <p:blipFill>
          <a:blip r:embed="rId2"/>
          <a:stretch/>
        </p:blipFill>
        <p:spPr>
          <a:xfrm>
            <a:off x="0" y="4150080"/>
            <a:ext cx="3047760" cy="2707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24800" y="412920"/>
            <a:ext cx="6709680" cy="4195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зербайджанские традиционные ремёсл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вроткачество, 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велирное производство, 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ботка дерева и камня, 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делка кожи и др.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C:\Users\Дарина\Desktop\документы на почту\seki-festival.jpg"/>
          <p:cNvPicPr/>
          <p:nvPr/>
        </p:nvPicPr>
        <p:blipFill>
          <a:blip r:embed="rId3"/>
          <a:stretch/>
        </p:blipFill>
        <p:spPr>
          <a:xfrm>
            <a:off x="4833360" y="3026160"/>
            <a:ext cx="4310280" cy="3831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93" name="Picture 6" descr="C:\Users\Дарина\Desktop\документы на почту\original.jpg"/>
          <p:cNvPicPr/>
          <p:nvPr/>
        </p:nvPicPr>
        <p:blipFill>
          <a:blip r:embed="rId4"/>
          <a:stretch/>
        </p:blipFill>
        <p:spPr>
          <a:xfrm>
            <a:off x="3048120" y="3454560"/>
            <a:ext cx="1784880" cy="3403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5" descr=""/>
          <p:cNvPicPr/>
          <p:nvPr/>
        </p:nvPicPr>
        <p:blipFill>
          <a:blip r:embed="rId1"/>
          <a:stretch/>
        </p:blipFill>
        <p:spPr>
          <a:xfrm>
            <a:off x="155160" y="3199680"/>
            <a:ext cx="1811880" cy="3519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95" name="Рисунок 4" descr=""/>
          <p:cNvPicPr/>
          <p:nvPr/>
        </p:nvPicPr>
        <p:blipFill>
          <a:blip r:embed="rId2"/>
          <a:stretch/>
        </p:blipFill>
        <p:spPr>
          <a:xfrm>
            <a:off x="3525480" y="3537000"/>
            <a:ext cx="1770120" cy="3228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388440"/>
            <a:ext cx="7053120" cy="9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f4f2ed"/>
                </a:solidFill>
                <a:latin typeface="Verdana"/>
              </a:rPr>
              <a:t>НацКостюм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12800" y="1159200"/>
            <a:ext cx="5271840" cy="5421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ые костюмы 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стюмы зависят от уровня хозяйственных отраслей и от географических условий.=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3"/>
          <a:stretch/>
        </p:blipFill>
        <p:spPr>
          <a:xfrm>
            <a:off x="6590520" y="2998080"/>
            <a:ext cx="2353320" cy="3721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2286000" y="20595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:\7а кл АЗЕРБАЙДЖАН\img6.jpg"/>
          <p:cNvPicPr/>
          <p:nvPr/>
        </p:nvPicPr>
        <p:blipFill>
          <a:blip r:embed="rId1"/>
          <a:stretch/>
        </p:blipFill>
        <p:spPr>
          <a:xfrm>
            <a:off x="785880" y="571320"/>
            <a:ext cx="7619760" cy="5714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12"/>
          <p:cNvSpPr txBox="1"/>
          <p:nvPr/>
        </p:nvSpPr>
        <p:spPr>
          <a:xfrm>
            <a:off x="1187640" y="0"/>
            <a:ext cx="6840000" cy="761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Impact"/>
              </a:rPr>
              <a:t> </a:t>
            </a:r>
            <a:r>
              <a:rPr b="0" lang="ru-RU" sz="3600" spc="-1" strike="noStrike">
                <a:ln w="0">
                  <a:noFill/>
                </a:ln>
                <a:solidFill>
                  <a:srgbClr val="333399"/>
                </a:solidFill>
                <a:latin typeface="Impact"/>
              </a:rPr>
              <a:t>Национальная кухня</a:t>
            </a:r>
            <a:endParaRPr b="0" lang="en-US" sz="3600" spc="-1" strike="noStrike">
              <a:ln w="0">
                <a:noFill/>
              </a:ln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4" name="Picture 2" descr="C:\Users\Закир\Desktop\azerbajdzhanskaya_kuhnya.jpg"/>
          <p:cNvPicPr/>
          <p:nvPr/>
        </p:nvPicPr>
        <p:blipFill>
          <a:blip r:embed="rId1"/>
          <a:stretch/>
        </p:blipFill>
        <p:spPr>
          <a:xfrm>
            <a:off x="323640" y="620640"/>
            <a:ext cx="3707640" cy="370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Users\Закир\Desktop\723397188.jpg"/>
          <p:cNvPicPr/>
          <p:nvPr/>
        </p:nvPicPr>
        <p:blipFill>
          <a:blip r:embed="rId2"/>
          <a:stretch/>
        </p:blipFill>
        <p:spPr>
          <a:xfrm>
            <a:off x="4068000" y="764640"/>
            <a:ext cx="4877280" cy="324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C:\Users\Закир\Desktop\kabab.jpg"/>
          <p:cNvPicPr/>
          <p:nvPr/>
        </p:nvPicPr>
        <p:blipFill>
          <a:blip r:embed="rId3"/>
          <a:stretch/>
        </p:blipFill>
        <p:spPr>
          <a:xfrm>
            <a:off x="2555640" y="4266000"/>
            <a:ext cx="4571640" cy="25916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251360" y="2612520"/>
            <a:ext cx="6748920" cy="4082400"/>
          </a:xfrm>
          <a:prstGeom prst="rect">
            <a:avLst/>
          </a:prstGeom>
          <a:ln w="9525">
            <a:noFill/>
          </a:ln>
        </p:spPr>
      </p:pic>
      <p:sp>
        <p:nvSpPr>
          <p:cNvPr id="208" name="Text Box 2"/>
          <p:cNvSpPr/>
          <p:nvPr/>
        </p:nvSpPr>
        <p:spPr>
          <a:xfrm>
            <a:off x="682560" y="162720"/>
            <a:ext cx="780732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ctr">
            <a:noAutofit/>
          </a:bodyPr>
          <a:p>
            <a:pPr marL="216000" indent="-216000"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6640"/>
                <a:tab algn="l" pos="1313280"/>
                <a:tab algn="l" pos="1969920"/>
                <a:tab algn="l" pos="2626560"/>
                <a:tab algn="l" pos="3283200"/>
                <a:tab algn="l" pos="3939840"/>
                <a:tab algn="l" pos="4596480"/>
                <a:tab algn="l" pos="5253120"/>
                <a:tab algn="l" pos="5909760"/>
                <a:tab algn="l" pos="6566400"/>
                <a:tab algn="l" pos="72230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Не удивляйтесь, если первым блюдом, поданным к столу, будет чай. У азербайджанцев чаепитие давно превратилось в культурно-эстетическое достояние, которое имеет свои приемы и правила. После завершения чаепития подаются вторые блюда, свежие овощи и зелень, а в конце –  слад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олилиния 3"/>
          <p:cNvSpPr/>
          <p:nvPr/>
        </p:nvSpPr>
        <p:spPr>
          <a:xfrm>
            <a:off x="-139680" y="-41400"/>
            <a:ext cx="5563800" cy="6878160"/>
          </a:xfrm>
          <a:custGeom>
            <a:avLst/>
            <a:gdLst>
              <a:gd name="textAreaLeft" fmla="*/ 0 w 5563800"/>
              <a:gd name="textAreaRight" fmla="*/ 5564160 w 5563800"/>
              <a:gd name="textAreaTop" fmla="*/ 0 h 6878160"/>
              <a:gd name="textAreaBottom" fmla="*/ 6878520 h 6878160"/>
            </a:gdLst>
            <a:ahLst/>
            <a:rect l="textAreaLeft" t="textAreaTop" r="textAreaRight" b="textAreaBottom"/>
            <a:pathLst>
              <a:path w="5564306" h="6878782">
                <a:moveTo>
                  <a:pt x="327287" y="31173"/>
                </a:moveTo>
                <a:cubicBezTo>
                  <a:pt x="692751" y="1038700"/>
                  <a:pt x="3293482" y="175823"/>
                  <a:pt x="4338178" y="727364"/>
                </a:cubicBezTo>
                <a:cubicBezTo>
                  <a:pt x="2956211" y="379742"/>
                  <a:pt x="1479424" y="1055578"/>
                  <a:pt x="441587" y="904009"/>
                </a:cubicBezTo>
                <a:cubicBezTo>
                  <a:pt x="80534" y="993648"/>
                  <a:pt x="163661" y="1058591"/>
                  <a:pt x="129860" y="1184564"/>
                </a:cubicBezTo>
                <a:cubicBezTo>
                  <a:pt x="369742" y="1755213"/>
                  <a:pt x="2012365" y="663301"/>
                  <a:pt x="3164006" y="1672937"/>
                </a:cubicBezTo>
                <a:cubicBezTo>
                  <a:pt x="1693711" y="935194"/>
                  <a:pt x="1104033" y="2027539"/>
                  <a:pt x="140251" y="1922319"/>
                </a:cubicBezTo>
                <a:lnTo>
                  <a:pt x="129860" y="2441864"/>
                </a:lnTo>
                <a:cubicBezTo>
                  <a:pt x="2389924" y="1394136"/>
                  <a:pt x="3543293" y="2636274"/>
                  <a:pt x="5179842" y="2182091"/>
                </a:cubicBezTo>
                <a:cubicBezTo>
                  <a:pt x="4148989" y="2924628"/>
                  <a:pt x="1271166" y="2022780"/>
                  <a:pt x="1459896" y="2753591"/>
                </a:cubicBezTo>
                <a:cubicBezTo>
                  <a:pt x="1559946" y="3670592"/>
                  <a:pt x="3286104" y="2250932"/>
                  <a:pt x="5200624" y="3532909"/>
                </a:cubicBezTo>
                <a:cubicBezTo>
                  <a:pt x="3208606" y="2804678"/>
                  <a:pt x="2627173" y="3674056"/>
                  <a:pt x="1231296" y="3616037"/>
                </a:cubicBezTo>
                <a:cubicBezTo>
                  <a:pt x="163657" y="3383106"/>
                  <a:pt x="413071" y="3487882"/>
                  <a:pt x="140251" y="3501737"/>
                </a:cubicBezTo>
                <a:lnTo>
                  <a:pt x="119469" y="4177146"/>
                </a:lnTo>
                <a:cubicBezTo>
                  <a:pt x="426486" y="4103967"/>
                  <a:pt x="543791" y="4072366"/>
                  <a:pt x="1480678" y="4156364"/>
                </a:cubicBezTo>
                <a:cubicBezTo>
                  <a:pt x="2841887" y="4253346"/>
                  <a:pt x="3279608" y="5373826"/>
                  <a:pt x="5564306" y="4447309"/>
                </a:cubicBezTo>
                <a:cubicBezTo>
                  <a:pt x="3109890" y="5623639"/>
                  <a:pt x="2876524" y="4578928"/>
                  <a:pt x="1532633" y="4644737"/>
                </a:cubicBezTo>
                <a:cubicBezTo>
                  <a:pt x="519977" y="4710969"/>
                  <a:pt x="710045" y="5181157"/>
                  <a:pt x="711751" y="5143500"/>
                </a:cubicBezTo>
                <a:cubicBezTo>
                  <a:pt x="1110545" y="6159185"/>
                  <a:pt x="2443158" y="4427802"/>
                  <a:pt x="4358960" y="5860473"/>
                </a:cubicBezTo>
                <a:cubicBezTo>
                  <a:pt x="2956659" y="5324868"/>
                  <a:pt x="3011634" y="5750467"/>
                  <a:pt x="1449506" y="6244937"/>
                </a:cubicBezTo>
                <a:cubicBezTo>
                  <a:pt x="0" y="6458796"/>
                  <a:pt x="303937" y="6736317"/>
                  <a:pt x="140251" y="6878782"/>
                </a:cubicBezTo>
                <a:cubicBezTo>
                  <a:pt x="136787" y="4585855"/>
                  <a:pt x="133324" y="2292927"/>
                  <a:pt x="129860" y="0"/>
                </a:cubicBezTo>
                <a:lnTo>
                  <a:pt x="327287" y="31173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0"/>
          </a:gradFill>
          <a:ln>
            <a:noFill/>
          </a:ln>
          <a:effectLst>
            <a:outerShdw algn="l" blurRad="11448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0" name="Полилиния 4"/>
          <p:cNvSpPr/>
          <p:nvPr/>
        </p:nvSpPr>
        <p:spPr>
          <a:xfrm>
            <a:off x="2909880" y="1143000"/>
            <a:ext cx="1775880" cy="469440"/>
          </a:xfrm>
          <a:custGeom>
            <a:avLst/>
            <a:gdLst>
              <a:gd name="textAreaLeft" fmla="*/ 0 w 1775880"/>
              <a:gd name="textAreaRight" fmla="*/ 1776240 w 177588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776845" h="470187">
                <a:moveTo>
                  <a:pt x="0" y="155416"/>
                </a:moveTo>
                <a:cubicBezTo>
                  <a:pt x="676716" y="0"/>
                  <a:pt x="1184563" y="314743"/>
                  <a:pt x="1776845" y="394407"/>
                </a:cubicBezTo>
                <a:cubicBezTo>
                  <a:pt x="1391949" y="470187"/>
                  <a:pt x="1151229" y="414769"/>
                  <a:pt x="820881" y="352843"/>
                </a:cubicBezTo>
                <a:cubicBezTo>
                  <a:pt x="550915" y="286228"/>
                  <a:pt x="419648" y="241156"/>
                  <a:pt x="0" y="155416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9044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1" name="Полилиния 5"/>
          <p:cNvSpPr/>
          <p:nvPr/>
        </p:nvSpPr>
        <p:spPr>
          <a:xfrm>
            <a:off x="2571840" y="5630760"/>
            <a:ext cx="2133360" cy="8805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80560"/>
              <a:gd name="textAreaBottom" fmla="*/ 880920 h 880560"/>
            </a:gdLst>
            <a:ahLst/>
            <a:rect l="textAreaLeft" t="textAreaTop" r="textAreaRight" b="textAreaBottom"/>
            <a:pathLst>
              <a:path w="2134003" h="881050">
                <a:moveTo>
                  <a:pt x="0" y="668502"/>
                </a:moveTo>
                <a:cubicBezTo>
                  <a:pt x="993657" y="0"/>
                  <a:pt x="993604" y="861554"/>
                  <a:pt x="2134003" y="764593"/>
                </a:cubicBezTo>
                <a:cubicBezTo>
                  <a:pt x="1749107" y="840373"/>
                  <a:pt x="1613630" y="881050"/>
                  <a:pt x="820881" y="723029"/>
                </a:cubicBezTo>
                <a:cubicBezTo>
                  <a:pt x="550915" y="656414"/>
                  <a:pt x="536557" y="549001"/>
                  <a:pt x="0" y="668502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14480" rotWithShape="0" sx="98000" sy="98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12" name="Содержимое 7"/>
          <p:cNvSpPr/>
          <p:nvPr/>
        </p:nvSpPr>
        <p:spPr>
          <a:xfrm>
            <a:off x="357120" y="285840"/>
            <a:ext cx="8229240" cy="6571800"/>
          </a:xfrm>
          <a:prstGeom prst="rect">
            <a:avLst/>
          </a:prstGeom>
          <a:gradFill rotWithShape="0">
            <a:gsLst>
              <a:gs pos="0">
                <a:srgbClr val="fff200">
                  <a:alpha val="65098"/>
                </a:srgbClr>
              </a:gs>
              <a:gs pos="100000">
                <a:srgbClr val="ff7a00">
                  <a:alpha val="69019"/>
                </a:srgbClr>
              </a:gs>
            </a:gsLst>
            <a:lin ang="5400000"/>
          </a:gradFill>
          <a:ln w="635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80"/>
              </a:spcBef>
            </a:pPr>
            <a:r>
              <a:rPr b="1" lang="ru-RU" sz="5400" spc="-1" strike="noStrike">
                <a:solidFill>
                  <a:srgbClr val="262626"/>
                </a:solidFill>
                <a:latin typeface="Times New Roman"/>
              </a:rPr>
              <a:t>БЛАГОДАРИ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80"/>
              </a:spcBef>
            </a:pPr>
            <a:r>
              <a:rPr b="1" lang="ru-RU" sz="54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62626"/>
                </a:solidFill>
                <a:latin typeface="Times New Roman"/>
              </a:rPr>
              <a:t>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1" lang="ru-RU" sz="3600" spc="-1" strike="noStrike">
              <a:solidFill>
                <a:srgbClr val="ff9257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Содержимое 7"/>
          <p:cNvSpPr/>
          <p:nvPr/>
        </p:nvSpPr>
        <p:spPr>
          <a:xfrm>
            <a:off x="357120" y="285840"/>
            <a:ext cx="8229240" cy="6571800"/>
          </a:xfrm>
          <a:prstGeom prst="rect">
            <a:avLst/>
          </a:prstGeom>
          <a:gradFill rotWithShape="0">
            <a:gsLst>
              <a:gs pos="0">
                <a:srgbClr val="fff200">
                  <a:alpha val="65098"/>
                </a:srgbClr>
              </a:gs>
              <a:gs pos="100000">
                <a:srgbClr val="ff7a00">
                  <a:alpha val="69019"/>
                </a:srgbClr>
              </a:gs>
            </a:gsLst>
            <a:lin ang="5400000"/>
          </a:gradFill>
          <a:ln w="635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ff7a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олилиния 3"/>
          <p:cNvSpPr/>
          <p:nvPr/>
        </p:nvSpPr>
        <p:spPr>
          <a:xfrm>
            <a:off x="-139680" y="-41400"/>
            <a:ext cx="5563800" cy="6878160"/>
          </a:xfrm>
          <a:custGeom>
            <a:avLst/>
            <a:gdLst>
              <a:gd name="textAreaLeft" fmla="*/ 0 w 5563800"/>
              <a:gd name="textAreaRight" fmla="*/ 5564160 w 5563800"/>
              <a:gd name="textAreaTop" fmla="*/ 0 h 6878160"/>
              <a:gd name="textAreaBottom" fmla="*/ 6878520 h 6878160"/>
            </a:gdLst>
            <a:ahLst/>
            <a:rect l="textAreaLeft" t="textAreaTop" r="textAreaRight" b="textAreaBottom"/>
            <a:pathLst>
              <a:path w="5564306" h="6878782">
                <a:moveTo>
                  <a:pt x="327287" y="31173"/>
                </a:moveTo>
                <a:cubicBezTo>
                  <a:pt x="692751" y="1038700"/>
                  <a:pt x="3293482" y="175823"/>
                  <a:pt x="4338178" y="727364"/>
                </a:cubicBezTo>
                <a:cubicBezTo>
                  <a:pt x="2956211" y="379742"/>
                  <a:pt x="1479424" y="1055578"/>
                  <a:pt x="441587" y="904009"/>
                </a:cubicBezTo>
                <a:cubicBezTo>
                  <a:pt x="80534" y="993648"/>
                  <a:pt x="163661" y="1058591"/>
                  <a:pt x="129860" y="1184564"/>
                </a:cubicBezTo>
                <a:cubicBezTo>
                  <a:pt x="369742" y="1755213"/>
                  <a:pt x="2012365" y="663301"/>
                  <a:pt x="3164006" y="1672937"/>
                </a:cubicBezTo>
                <a:cubicBezTo>
                  <a:pt x="1693711" y="935194"/>
                  <a:pt x="1104033" y="2027539"/>
                  <a:pt x="140251" y="1922319"/>
                </a:cubicBezTo>
                <a:lnTo>
                  <a:pt x="129860" y="2441864"/>
                </a:lnTo>
                <a:cubicBezTo>
                  <a:pt x="2389924" y="1394136"/>
                  <a:pt x="3543293" y="2636274"/>
                  <a:pt x="5179842" y="2182091"/>
                </a:cubicBezTo>
                <a:cubicBezTo>
                  <a:pt x="4148989" y="2924628"/>
                  <a:pt x="1271166" y="2022780"/>
                  <a:pt x="1459896" y="2753591"/>
                </a:cubicBezTo>
                <a:cubicBezTo>
                  <a:pt x="1559946" y="3670592"/>
                  <a:pt x="3286104" y="2250932"/>
                  <a:pt x="5200624" y="3532909"/>
                </a:cubicBezTo>
                <a:cubicBezTo>
                  <a:pt x="3208606" y="2804678"/>
                  <a:pt x="2627173" y="3674056"/>
                  <a:pt x="1231296" y="3616037"/>
                </a:cubicBezTo>
                <a:cubicBezTo>
                  <a:pt x="163657" y="3383106"/>
                  <a:pt x="413071" y="3487882"/>
                  <a:pt x="140251" y="3501737"/>
                </a:cubicBezTo>
                <a:lnTo>
                  <a:pt x="119469" y="4177146"/>
                </a:lnTo>
                <a:cubicBezTo>
                  <a:pt x="426486" y="4103967"/>
                  <a:pt x="543791" y="4072366"/>
                  <a:pt x="1480678" y="4156364"/>
                </a:cubicBezTo>
                <a:cubicBezTo>
                  <a:pt x="2841887" y="4253346"/>
                  <a:pt x="3279608" y="5373826"/>
                  <a:pt x="5564306" y="4447309"/>
                </a:cubicBezTo>
                <a:cubicBezTo>
                  <a:pt x="3109890" y="5623639"/>
                  <a:pt x="2876524" y="4578928"/>
                  <a:pt x="1532633" y="4644737"/>
                </a:cubicBezTo>
                <a:cubicBezTo>
                  <a:pt x="519977" y="4710969"/>
                  <a:pt x="710045" y="5181157"/>
                  <a:pt x="711751" y="5143500"/>
                </a:cubicBezTo>
                <a:cubicBezTo>
                  <a:pt x="1110545" y="6159185"/>
                  <a:pt x="2443158" y="4427802"/>
                  <a:pt x="4358960" y="5860473"/>
                </a:cubicBezTo>
                <a:cubicBezTo>
                  <a:pt x="2956659" y="5324868"/>
                  <a:pt x="3011634" y="5750467"/>
                  <a:pt x="1449506" y="6244937"/>
                </a:cubicBezTo>
                <a:cubicBezTo>
                  <a:pt x="0" y="6458796"/>
                  <a:pt x="303937" y="6736317"/>
                  <a:pt x="140251" y="6878782"/>
                </a:cubicBezTo>
                <a:cubicBezTo>
                  <a:pt x="136787" y="4585855"/>
                  <a:pt x="133324" y="2292927"/>
                  <a:pt x="129860" y="0"/>
                </a:cubicBezTo>
                <a:lnTo>
                  <a:pt x="327287" y="31173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0"/>
          </a:gradFill>
          <a:ln>
            <a:noFill/>
          </a:ln>
          <a:effectLst>
            <a:outerShdw algn="l" blurRad="11448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9" name="Полилиния 4"/>
          <p:cNvSpPr/>
          <p:nvPr/>
        </p:nvSpPr>
        <p:spPr>
          <a:xfrm>
            <a:off x="2909880" y="1143000"/>
            <a:ext cx="1775880" cy="469440"/>
          </a:xfrm>
          <a:custGeom>
            <a:avLst/>
            <a:gdLst>
              <a:gd name="textAreaLeft" fmla="*/ 0 w 1775880"/>
              <a:gd name="textAreaRight" fmla="*/ 1776240 w 177588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776845" h="470187">
                <a:moveTo>
                  <a:pt x="0" y="155416"/>
                </a:moveTo>
                <a:cubicBezTo>
                  <a:pt x="676716" y="0"/>
                  <a:pt x="1184563" y="314743"/>
                  <a:pt x="1776845" y="394407"/>
                </a:cubicBezTo>
                <a:cubicBezTo>
                  <a:pt x="1391949" y="470187"/>
                  <a:pt x="1151229" y="414769"/>
                  <a:pt x="820881" y="352843"/>
                </a:cubicBezTo>
                <a:cubicBezTo>
                  <a:pt x="550915" y="286228"/>
                  <a:pt x="419648" y="241156"/>
                  <a:pt x="0" y="155416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9044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0" name="Полилиния 5"/>
          <p:cNvSpPr/>
          <p:nvPr/>
        </p:nvSpPr>
        <p:spPr>
          <a:xfrm>
            <a:off x="2571840" y="5630760"/>
            <a:ext cx="2133360" cy="8805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80560"/>
              <a:gd name="textAreaBottom" fmla="*/ 880920 h 880560"/>
            </a:gdLst>
            <a:ahLst/>
            <a:rect l="textAreaLeft" t="textAreaTop" r="textAreaRight" b="textAreaBottom"/>
            <a:pathLst>
              <a:path w="2134003" h="881050">
                <a:moveTo>
                  <a:pt x="0" y="668502"/>
                </a:moveTo>
                <a:cubicBezTo>
                  <a:pt x="993657" y="0"/>
                  <a:pt x="993604" y="861554"/>
                  <a:pt x="2134003" y="764593"/>
                </a:cubicBezTo>
                <a:cubicBezTo>
                  <a:pt x="1749107" y="840373"/>
                  <a:pt x="1613630" y="881050"/>
                  <a:pt x="820881" y="723029"/>
                </a:cubicBezTo>
                <a:cubicBezTo>
                  <a:pt x="550915" y="656414"/>
                  <a:pt x="536557" y="549001"/>
                  <a:pt x="0" y="668502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14480" rotWithShape="0" sx="98000" sy="98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pic>
        <p:nvPicPr>
          <p:cNvPr id="141" name="Picture 10" descr="C:\Documents and Settings\Admin\Рабочий стол\buta2.gif"/>
          <p:cNvPicPr/>
          <p:nvPr/>
        </p:nvPicPr>
        <p:blipFill>
          <a:blip r:embed="rId1"/>
          <a:stretch/>
        </p:blipFill>
        <p:spPr>
          <a:xfrm>
            <a:off x="428760" y="3429000"/>
            <a:ext cx="2757240" cy="3285720"/>
          </a:xfrm>
          <a:prstGeom prst="rect">
            <a:avLst/>
          </a:prstGeom>
          <a:ln w="9525">
            <a:noFill/>
          </a:ln>
        </p:spPr>
      </p:pic>
      <p:sp>
        <p:nvSpPr>
          <p:cNvPr id="142" name="Содержимое 7"/>
          <p:cNvSpPr/>
          <p:nvPr/>
        </p:nvSpPr>
        <p:spPr>
          <a:xfrm>
            <a:off x="457200" y="428760"/>
            <a:ext cx="8229240" cy="6214680"/>
          </a:xfrm>
          <a:prstGeom prst="rect">
            <a:avLst/>
          </a:prstGeom>
          <a:gradFill rotWithShape="0">
            <a:gsLst>
              <a:gs pos="0">
                <a:srgbClr val="fff200">
                  <a:alpha val="65098"/>
                </a:srgbClr>
              </a:gs>
              <a:gs pos="100000">
                <a:srgbClr val="ff7a00">
                  <a:alpha val="69019"/>
                </a:srgbClr>
              </a:gs>
            </a:gsLst>
            <a:lin ang="5400000"/>
          </a:gradFill>
          <a:ln w="635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хотим рассказать вам о чудесной стране -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Азер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байд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жа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ее уникальной природе, неповторимой культуре, многовековой истор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вание страны происходит от перси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азар» — «огонь», абадаган — «собирающий»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Закир\Desktop\7927367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Кавказские  г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Users\Закир\Desktop\25148589_Gruziy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</a:rPr>
              <a:t>Ку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олилиния 3"/>
          <p:cNvSpPr/>
          <p:nvPr/>
        </p:nvSpPr>
        <p:spPr>
          <a:xfrm>
            <a:off x="-139680" y="-41400"/>
            <a:ext cx="5563800" cy="6878160"/>
          </a:xfrm>
          <a:custGeom>
            <a:avLst/>
            <a:gdLst>
              <a:gd name="textAreaLeft" fmla="*/ 0 w 5563800"/>
              <a:gd name="textAreaRight" fmla="*/ 5564160 w 5563800"/>
              <a:gd name="textAreaTop" fmla="*/ 0 h 6878160"/>
              <a:gd name="textAreaBottom" fmla="*/ 6878520 h 6878160"/>
            </a:gdLst>
            <a:ahLst/>
            <a:rect l="textAreaLeft" t="textAreaTop" r="textAreaRight" b="textAreaBottom"/>
            <a:pathLst>
              <a:path w="5564306" h="6878782">
                <a:moveTo>
                  <a:pt x="327287" y="31173"/>
                </a:moveTo>
                <a:cubicBezTo>
                  <a:pt x="692751" y="1038700"/>
                  <a:pt x="3293482" y="175823"/>
                  <a:pt x="4338178" y="727364"/>
                </a:cubicBezTo>
                <a:cubicBezTo>
                  <a:pt x="2956211" y="379742"/>
                  <a:pt x="1479424" y="1055578"/>
                  <a:pt x="441587" y="904009"/>
                </a:cubicBezTo>
                <a:cubicBezTo>
                  <a:pt x="80534" y="993648"/>
                  <a:pt x="163661" y="1058591"/>
                  <a:pt x="129860" y="1184564"/>
                </a:cubicBezTo>
                <a:cubicBezTo>
                  <a:pt x="369742" y="1755213"/>
                  <a:pt x="2012365" y="663301"/>
                  <a:pt x="3164006" y="1672937"/>
                </a:cubicBezTo>
                <a:cubicBezTo>
                  <a:pt x="1693711" y="935194"/>
                  <a:pt x="1104033" y="2027539"/>
                  <a:pt x="140251" y="1922319"/>
                </a:cubicBezTo>
                <a:lnTo>
                  <a:pt x="129860" y="2441864"/>
                </a:lnTo>
                <a:cubicBezTo>
                  <a:pt x="2389924" y="1394136"/>
                  <a:pt x="3543293" y="2636274"/>
                  <a:pt x="5179842" y="2182091"/>
                </a:cubicBezTo>
                <a:cubicBezTo>
                  <a:pt x="4148989" y="2924628"/>
                  <a:pt x="1271166" y="2022780"/>
                  <a:pt x="1459896" y="2753591"/>
                </a:cubicBezTo>
                <a:cubicBezTo>
                  <a:pt x="1559946" y="3670592"/>
                  <a:pt x="3286104" y="2250932"/>
                  <a:pt x="5200624" y="3532909"/>
                </a:cubicBezTo>
                <a:cubicBezTo>
                  <a:pt x="3208606" y="2804678"/>
                  <a:pt x="2627173" y="3674056"/>
                  <a:pt x="1231296" y="3616037"/>
                </a:cubicBezTo>
                <a:cubicBezTo>
                  <a:pt x="163657" y="3383106"/>
                  <a:pt x="413071" y="3487882"/>
                  <a:pt x="140251" y="3501737"/>
                </a:cubicBezTo>
                <a:lnTo>
                  <a:pt x="119469" y="4177146"/>
                </a:lnTo>
                <a:cubicBezTo>
                  <a:pt x="426486" y="4103967"/>
                  <a:pt x="543791" y="4072366"/>
                  <a:pt x="1480678" y="4156364"/>
                </a:cubicBezTo>
                <a:cubicBezTo>
                  <a:pt x="2841887" y="4253346"/>
                  <a:pt x="3279608" y="5373826"/>
                  <a:pt x="5564306" y="4447309"/>
                </a:cubicBezTo>
                <a:cubicBezTo>
                  <a:pt x="3109890" y="5623639"/>
                  <a:pt x="2876524" y="4578928"/>
                  <a:pt x="1532633" y="4644737"/>
                </a:cubicBezTo>
                <a:cubicBezTo>
                  <a:pt x="519977" y="4710969"/>
                  <a:pt x="710045" y="5181157"/>
                  <a:pt x="711751" y="5143500"/>
                </a:cubicBezTo>
                <a:cubicBezTo>
                  <a:pt x="1110545" y="6159185"/>
                  <a:pt x="2443158" y="4427802"/>
                  <a:pt x="4358960" y="5860473"/>
                </a:cubicBezTo>
                <a:cubicBezTo>
                  <a:pt x="2956659" y="5324868"/>
                  <a:pt x="3011634" y="5750467"/>
                  <a:pt x="1449506" y="6244937"/>
                </a:cubicBezTo>
                <a:cubicBezTo>
                  <a:pt x="0" y="6458796"/>
                  <a:pt x="303937" y="6736317"/>
                  <a:pt x="140251" y="6878782"/>
                </a:cubicBezTo>
                <a:cubicBezTo>
                  <a:pt x="136787" y="4585855"/>
                  <a:pt x="133324" y="2292927"/>
                  <a:pt x="129860" y="0"/>
                </a:cubicBezTo>
                <a:lnTo>
                  <a:pt x="327287" y="31173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0"/>
          </a:gradFill>
          <a:ln>
            <a:noFill/>
          </a:ln>
          <a:effectLst>
            <a:outerShdw algn="l" blurRad="11448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8" name="Полилиния 4"/>
          <p:cNvSpPr/>
          <p:nvPr/>
        </p:nvSpPr>
        <p:spPr>
          <a:xfrm>
            <a:off x="2909880" y="1143000"/>
            <a:ext cx="1775880" cy="469440"/>
          </a:xfrm>
          <a:custGeom>
            <a:avLst/>
            <a:gdLst>
              <a:gd name="textAreaLeft" fmla="*/ 0 w 1775880"/>
              <a:gd name="textAreaRight" fmla="*/ 1776240 w 177588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776845" h="470187">
                <a:moveTo>
                  <a:pt x="0" y="155416"/>
                </a:moveTo>
                <a:cubicBezTo>
                  <a:pt x="676716" y="0"/>
                  <a:pt x="1184563" y="314743"/>
                  <a:pt x="1776845" y="394407"/>
                </a:cubicBezTo>
                <a:cubicBezTo>
                  <a:pt x="1391949" y="470187"/>
                  <a:pt x="1151229" y="414769"/>
                  <a:pt x="820881" y="352843"/>
                </a:cubicBezTo>
                <a:cubicBezTo>
                  <a:pt x="550915" y="286228"/>
                  <a:pt x="419648" y="241156"/>
                  <a:pt x="0" y="155416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9044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49" name="Полилиния 5"/>
          <p:cNvSpPr/>
          <p:nvPr/>
        </p:nvSpPr>
        <p:spPr>
          <a:xfrm>
            <a:off x="2571840" y="5630760"/>
            <a:ext cx="2133360" cy="8805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80560"/>
              <a:gd name="textAreaBottom" fmla="*/ 880920 h 880560"/>
            </a:gdLst>
            <a:ahLst/>
            <a:rect l="textAreaLeft" t="textAreaTop" r="textAreaRight" b="textAreaBottom"/>
            <a:pathLst>
              <a:path w="2134003" h="881050">
                <a:moveTo>
                  <a:pt x="0" y="668502"/>
                </a:moveTo>
                <a:cubicBezTo>
                  <a:pt x="993657" y="0"/>
                  <a:pt x="993604" y="861554"/>
                  <a:pt x="2134003" y="764593"/>
                </a:cubicBezTo>
                <a:cubicBezTo>
                  <a:pt x="1749107" y="840373"/>
                  <a:pt x="1613630" y="881050"/>
                  <a:pt x="820881" y="723029"/>
                </a:cubicBezTo>
                <a:cubicBezTo>
                  <a:pt x="550915" y="656414"/>
                  <a:pt x="536557" y="549001"/>
                  <a:pt x="0" y="668502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14480" rotWithShape="0" sx="98000" sy="98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0" name="Содержимое 7"/>
          <p:cNvSpPr/>
          <p:nvPr/>
        </p:nvSpPr>
        <p:spPr>
          <a:xfrm>
            <a:off x="457200" y="1600200"/>
            <a:ext cx="8229240" cy="5257440"/>
          </a:xfrm>
          <a:prstGeom prst="rect">
            <a:avLst/>
          </a:prstGeom>
          <a:gradFill rotWithShape="0">
            <a:gsLst>
              <a:gs pos="0">
                <a:srgbClr val="fff200">
                  <a:alpha val="65098"/>
                </a:srgbClr>
              </a:gs>
              <a:gs pos="100000">
                <a:srgbClr val="ff7a00">
                  <a:alpha val="69019"/>
                </a:srgbClr>
              </a:gs>
            </a:gsLst>
            <a:lin ang="5400000"/>
          </a:gradFill>
          <a:ln w="635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solidFill>
            <a:srgbClr val="ffffff">
              <a:alpha val="47000"/>
            </a:srgbClr>
          </a:solidFill>
          <a:ln w="6480">
            <a:solidFill>
              <a:srgbClr val="a50021">
                <a:alpha val="52000"/>
              </a:srgbClr>
            </a:solidFill>
            <a:round/>
          </a:ln>
        </p:spPr>
        <p:txBody>
          <a:bodyPr lIns="90000" rIns="90000" tIns="45000" bIns="45000" anchor="b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Баку – столица Азербайджан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E:\prezentasiya\baki\15.jpg"/>
          <p:cNvPicPr/>
          <p:nvPr/>
        </p:nvPicPr>
        <p:blipFill>
          <a:blip r:embed="rId1"/>
          <a:stretch/>
        </p:blipFill>
        <p:spPr>
          <a:xfrm>
            <a:off x="2571840" y="4286160"/>
            <a:ext cx="4192200" cy="2571480"/>
          </a:xfrm>
          <a:prstGeom prst="rect">
            <a:avLst/>
          </a:prstGeom>
          <a:ln w="9525">
            <a:noFill/>
          </a:ln>
        </p:spPr>
      </p:pic>
      <p:pic>
        <p:nvPicPr>
          <p:cNvPr id="153" name="Picture 6" descr="E:\prezentasiya\baki\11.jpg"/>
          <p:cNvPicPr/>
          <p:nvPr/>
        </p:nvPicPr>
        <p:blipFill>
          <a:blip r:embed="rId2"/>
          <a:stretch/>
        </p:blipFill>
        <p:spPr>
          <a:xfrm>
            <a:off x="714240" y="1785960"/>
            <a:ext cx="3571560" cy="231588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12" descr="G:\prezentasiya\Baku_seal.png"/>
          <p:cNvPicPr/>
          <p:nvPr/>
        </p:nvPicPr>
        <p:blipFill>
          <a:blip r:embed="rId3"/>
          <a:stretch/>
        </p:blipFill>
        <p:spPr>
          <a:xfrm>
            <a:off x="7589880" y="355680"/>
            <a:ext cx="767880" cy="100152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2" descr="E:\prezentasiya\baki\1fb38dd1fe6e.jpg"/>
          <p:cNvPicPr/>
          <p:nvPr/>
        </p:nvPicPr>
        <p:blipFill>
          <a:blip r:embed="rId4"/>
          <a:stretch/>
        </p:blipFill>
        <p:spPr>
          <a:xfrm>
            <a:off x="4512240" y="1785960"/>
            <a:ext cx="3845880" cy="2285640"/>
          </a:xfrm>
          <a:prstGeom prst="rect">
            <a:avLst/>
          </a:prstGeom>
          <a:ln w="9525">
            <a:noFill/>
          </a:ln>
        </p:spPr>
      </p:pic>
    </p:spTree>
  </p:cSld>
  <p:transition spd="med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олилиния 3"/>
          <p:cNvSpPr/>
          <p:nvPr/>
        </p:nvSpPr>
        <p:spPr>
          <a:xfrm>
            <a:off x="-139680" y="-41400"/>
            <a:ext cx="5563800" cy="6878160"/>
          </a:xfrm>
          <a:custGeom>
            <a:avLst/>
            <a:gdLst>
              <a:gd name="textAreaLeft" fmla="*/ 0 w 5563800"/>
              <a:gd name="textAreaRight" fmla="*/ 5564160 w 5563800"/>
              <a:gd name="textAreaTop" fmla="*/ 0 h 6878160"/>
              <a:gd name="textAreaBottom" fmla="*/ 6878520 h 6878160"/>
            </a:gdLst>
            <a:ahLst/>
            <a:rect l="textAreaLeft" t="textAreaTop" r="textAreaRight" b="textAreaBottom"/>
            <a:pathLst>
              <a:path w="5564306" h="6878782">
                <a:moveTo>
                  <a:pt x="327287" y="31173"/>
                </a:moveTo>
                <a:cubicBezTo>
                  <a:pt x="692751" y="1038700"/>
                  <a:pt x="3293482" y="175823"/>
                  <a:pt x="4338178" y="727364"/>
                </a:cubicBezTo>
                <a:cubicBezTo>
                  <a:pt x="2956211" y="379742"/>
                  <a:pt x="1479424" y="1055578"/>
                  <a:pt x="441587" y="904009"/>
                </a:cubicBezTo>
                <a:cubicBezTo>
                  <a:pt x="80534" y="993648"/>
                  <a:pt x="163661" y="1058591"/>
                  <a:pt x="129860" y="1184564"/>
                </a:cubicBezTo>
                <a:cubicBezTo>
                  <a:pt x="369742" y="1755213"/>
                  <a:pt x="2012365" y="663301"/>
                  <a:pt x="3164006" y="1672937"/>
                </a:cubicBezTo>
                <a:cubicBezTo>
                  <a:pt x="1693711" y="935194"/>
                  <a:pt x="1104033" y="2027539"/>
                  <a:pt x="140251" y="1922319"/>
                </a:cubicBezTo>
                <a:lnTo>
                  <a:pt x="129860" y="2441864"/>
                </a:lnTo>
                <a:cubicBezTo>
                  <a:pt x="2389924" y="1394136"/>
                  <a:pt x="3543293" y="2636274"/>
                  <a:pt x="5179842" y="2182091"/>
                </a:cubicBezTo>
                <a:cubicBezTo>
                  <a:pt x="4148989" y="2924628"/>
                  <a:pt x="1271166" y="2022780"/>
                  <a:pt x="1459896" y="2753591"/>
                </a:cubicBezTo>
                <a:cubicBezTo>
                  <a:pt x="1559946" y="3670592"/>
                  <a:pt x="3286104" y="2250932"/>
                  <a:pt x="5200624" y="3532909"/>
                </a:cubicBezTo>
                <a:cubicBezTo>
                  <a:pt x="3208606" y="2804678"/>
                  <a:pt x="2627173" y="3674056"/>
                  <a:pt x="1231296" y="3616037"/>
                </a:cubicBezTo>
                <a:cubicBezTo>
                  <a:pt x="163657" y="3383106"/>
                  <a:pt x="413071" y="3487882"/>
                  <a:pt x="140251" y="3501737"/>
                </a:cubicBezTo>
                <a:lnTo>
                  <a:pt x="119469" y="4177146"/>
                </a:lnTo>
                <a:cubicBezTo>
                  <a:pt x="426486" y="4103967"/>
                  <a:pt x="543791" y="4072366"/>
                  <a:pt x="1480678" y="4156364"/>
                </a:cubicBezTo>
                <a:cubicBezTo>
                  <a:pt x="2841887" y="4253346"/>
                  <a:pt x="3279608" y="5373826"/>
                  <a:pt x="5564306" y="4447309"/>
                </a:cubicBezTo>
                <a:cubicBezTo>
                  <a:pt x="3109890" y="5623639"/>
                  <a:pt x="2876524" y="4578928"/>
                  <a:pt x="1532633" y="4644737"/>
                </a:cubicBezTo>
                <a:cubicBezTo>
                  <a:pt x="519977" y="4710969"/>
                  <a:pt x="710045" y="5181157"/>
                  <a:pt x="711751" y="5143500"/>
                </a:cubicBezTo>
                <a:cubicBezTo>
                  <a:pt x="1110545" y="6159185"/>
                  <a:pt x="2443158" y="4427802"/>
                  <a:pt x="4358960" y="5860473"/>
                </a:cubicBezTo>
                <a:cubicBezTo>
                  <a:pt x="2956659" y="5324868"/>
                  <a:pt x="3011634" y="5750467"/>
                  <a:pt x="1449506" y="6244937"/>
                </a:cubicBezTo>
                <a:cubicBezTo>
                  <a:pt x="0" y="6458796"/>
                  <a:pt x="303937" y="6736317"/>
                  <a:pt x="140251" y="6878782"/>
                </a:cubicBezTo>
                <a:cubicBezTo>
                  <a:pt x="136787" y="4585855"/>
                  <a:pt x="133324" y="2292927"/>
                  <a:pt x="129860" y="0"/>
                </a:cubicBezTo>
                <a:lnTo>
                  <a:pt x="327287" y="31173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0"/>
          </a:gradFill>
          <a:ln>
            <a:noFill/>
          </a:ln>
          <a:effectLst>
            <a:outerShdw algn="l" blurRad="11448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7" name="Полилиния 4"/>
          <p:cNvSpPr/>
          <p:nvPr/>
        </p:nvSpPr>
        <p:spPr>
          <a:xfrm>
            <a:off x="2909880" y="1143000"/>
            <a:ext cx="1775880" cy="469440"/>
          </a:xfrm>
          <a:custGeom>
            <a:avLst/>
            <a:gdLst>
              <a:gd name="textAreaLeft" fmla="*/ 0 w 1775880"/>
              <a:gd name="textAreaRight" fmla="*/ 1776240 w 177588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776845" h="470187">
                <a:moveTo>
                  <a:pt x="0" y="155416"/>
                </a:moveTo>
                <a:cubicBezTo>
                  <a:pt x="676716" y="0"/>
                  <a:pt x="1184563" y="314743"/>
                  <a:pt x="1776845" y="394407"/>
                </a:cubicBezTo>
                <a:cubicBezTo>
                  <a:pt x="1391949" y="470187"/>
                  <a:pt x="1151229" y="414769"/>
                  <a:pt x="820881" y="352843"/>
                </a:cubicBezTo>
                <a:cubicBezTo>
                  <a:pt x="550915" y="286228"/>
                  <a:pt x="419648" y="241156"/>
                  <a:pt x="0" y="155416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9044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8" name="Полилиния 5"/>
          <p:cNvSpPr/>
          <p:nvPr/>
        </p:nvSpPr>
        <p:spPr>
          <a:xfrm>
            <a:off x="2571840" y="5630760"/>
            <a:ext cx="2133360" cy="8805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80560"/>
              <a:gd name="textAreaBottom" fmla="*/ 880920 h 880560"/>
            </a:gdLst>
            <a:ahLst/>
            <a:rect l="textAreaLeft" t="textAreaTop" r="textAreaRight" b="textAreaBottom"/>
            <a:pathLst>
              <a:path w="2134003" h="881050">
                <a:moveTo>
                  <a:pt x="0" y="668502"/>
                </a:moveTo>
                <a:cubicBezTo>
                  <a:pt x="993657" y="0"/>
                  <a:pt x="993604" y="861554"/>
                  <a:pt x="2134003" y="764593"/>
                </a:cubicBezTo>
                <a:cubicBezTo>
                  <a:pt x="1749107" y="840373"/>
                  <a:pt x="1613630" y="881050"/>
                  <a:pt x="820881" y="723029"/>
                </a:cubicBezTo>
                <a:cubicBezTo>
                  <a:pt x="550915" y="656414"/>
                  <a:pt x="536557" y="549001"/>
                  <a:pt x="0" y="668502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14480" rotWithShape="0" sx="98000" sy="98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59" name="Содержимое 7"/>
          <p:cNvSpPr/>
          <p:nvPr/>
        </p:nvSpPr>
        <p:spPr>
          <a:xfrm>
            <a:off x="457200" y="1643040"/>
            <a:ext cx="8229240" cy="4971600"/>
          </a:xfrm>
          <a:prstGeom prst="rect">
            <a:avLst/>
          </a:prstGeom>
          <a:gradFill rotWithShape="0">
            <a:gsLst>
              <a:gs pos="0">
                <a:srgbClr val="fff200">
                  <a:alpha val="65098"/>
                </a:srgbClr>
              </a:gs>
              <a:gs pos="100000">
                <a:srgbClr val="ff7a00">
                  <a:alpha val="69019"/>
                </a:srgbClr>
              </a:gs>
            </a:gsLst>
            <a:lin ang="5400000"/>
          </a:gradFill>
          <a:ln w="635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ыми символами Азербайджанской Республики являются Государственный флаг Азербайджанской Республики, Государственный герб Азербайджанской Республики и Государственный гимн Азербайджанской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Государственные символ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14" descr="E:\www.imishli.az\images\bayraq.jpg"/>
          <p:cNvPicPr/>
          <p:nvPr/>
        </p:nvPicPr>
        <p:blipFill>
          <a:blip r:embed="rId1"/>
          <a:stretch/>
        </p:blipFill>
        <p:spPr>
          <a:xfrm>
            <a:off x="1071720" y="3571920"/>
            <a:ext cx="2999880" cy="14997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15" descr="E:\www.imishli.az\images\gerb.gif"/>
          <p:cNvPicPr/>
          <p:nvPr/>
        </p:nvPicPr>
        <p:blipFill>
          <a:blip r:embed="rId2"/>
          <a:stretch/>
        </p:blipFill>
        <p:spPr>
          <a:xfrm>
            <a:off x="4500720" y="3449520"/>
            <a:ext cx="1571400" cy="1765080"/>
          </a:xfrm>
          <a:prstGeom prst="rect">
            <a:avLst/>
          </a:prstGeom>
          <a:ln w="9525">
            <a:noFill/>
          </a:ln>
        </p:spPr>
      </p:pic>
      <p:pic>
        <p:nvPicPr>
          <p:cNvPr id="164" name="Picture 16" descr="stateSymbols_01_3"/>
          <p:cNvPicPr/>
          <p:nvPr/>
        </p:nvPicPr>
        <p:blipFill>
          <a:blip r:embed="rId3"/>
          <a:stretch/>
        </p:blipFill>
        <p:spPr>
          <a:xfrm>
            <a:off x="6500880" y="3262320"/>
            <a:ext cx="1630080" cy="2595240"/>
          </a:xfrm>
          <a:prstGeom prst="rect">
            <a:avLst/>
          </a:prstGeom>
          <a:ln w="9525">
            <a:noFill/>
          </a:ln>
        </p:spPr>
      </p:pic>
    </p:spTree>
  </p:cSld>
  <p:transition spd="med">
    <p:circl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олилиния 3"/>
          <p:cNvSpPr/>
          <p:nvPr/>
        </p:nvSpPr>
        <p:spPr>
          <a:xfrm>
            <a:off x="-139680" y="-41400"/>
            <a:ext cx="5563800" cy="6878160"/>
          </a:xfrm>
          <a:custGeom>
            <a:avLst/>
            <a:gdLst>
              <a:gd name="textAreaLeft" fmla="*/ 0 w 5563800"/>
              <a:gd name="textAreaRight" fmla="*/ 5564160 w 5563800"/>
              <a:gd name="textAreaTop" fmla="*/ 0 h 6878160"/>
              <a:gd name="textAreaBottom" fmla="*/ 6878520 h 6878160"/>
            </a:gdLst>
            <a:ahLst/>
            <a:rect l="textAreaLeft" t="textAreaTop" r="textAreaRight" b="textAreaBottom"/>
            <a:pathLst>
              <a:path w="5564306" h="6878782">
                <a:moveTo>
                  <a:pt x="327287" y="31173"/>
                </a:moveTo>
                <a:cubicBezTo>
                  <a:pt x="692751" y="1038700"/>
                  <a:pt x="3293482" y="175823"/>
                  <a:pt x="4338178" y="727364"/>
                </a:cubicBezTo>
                <a:cubicBezTo>
                  <a:pt x="2956211" y="379742"/>
                  <a:pt x="1479424" y="1055578"/>
                  <a:pt x="441587" y="904009"/>
                </a:cubicBezTo>
                <a:cubicBezTo>
                  <a:pt x="80534" y="993648"/>
                  <a:pt x="163661" y="1058591"/>
                  <a:pt x="129860" y="1184564"/>
                </a:cubicBezTo>
                <a:cubicBezTo>
                  <a:pt x="369742" y="1755213"/>
                  <a:pt x="2012365" y="663301"/>
                  <a:pt x="3164006" y="1672937"/>
                </a:cubicBezTo>
                <a:cubicBezTo>
                  <a:pt x="1693711" y="935194"/>
                  <a:pt x="1104033" y="2027539"/>
                  <a:pt x="140251" y="1922319"/>
                </a:cubicBezTo>
                <a:lnTo>
                  <a:pt x="129860" y="2441864"/>
                </a:lnTo>
                <a:cubicBezTo>
                  <a:pt x="2389924" y="1394136"/>
                  <a:pt x="3543293" y="2636274"/>
                  <a:pt x="5179842" y="2182091"/>
                </a:cubicBezTo>
                <a:cubicBezTo>
                  <a:pt x="4148989" y="2924628"/>
                  <a:pt x="1271166" y="2022780"/>
                  <a:pt x="1459896" y="2753591"/>
                </a:cubicBezTo>
                <a:cubicBezTo>
                  <a:pt x="1559946" y="3670592"/>
                  <a:pt x="3286104" y="2250932"/>
                  <a:pt x="5200624" y="3532909"/>
                </a:cubicBezTo>
                <a:cubicBezTo>
                  <a:pt x="3208606" y="2804678"/>
                  <a:pt x="2627173" y="3674056"/>
                  <a:pt x="1231296" y="3616037"/>
                </a:cubicBezTo>
                <a:cubicBezTo>
                  <a:pt x="163657" y="3383106"/>
                  <a:pt x="413071" y="3487882"/>
                  <a:pt x="140251" y="3501737"/>
                </a:cubicBezTo>
                <a:lnTo>
                  <a:pt x="119469" y="4177146"/>
                </a:lnTo>
                <a:cubicBezTo>
                  <a:pt x="426486" y="4103967"/>
                  <a:pt x="543791" y="4072366"/>
                  <a:pt x="1480678" y="4156364"/>
                </a:cubicBezTo>
                <a:cubicBezTo>
                  <a:pt x="2841887" y="4253346"/>
                  <a:pt x="3279608" y="5373826"/>
                  <a:pt x="5564306" y="4447309"/>
                </a:cubicBezTo>
                <a:cubicBezTo>
                  <a:pt x="3109890" y="5623639"/>
                  <a:pt x="2876524" y="4578928"/>
                  <a:pt x="1532633" y="4644737"/>
                </a:cubicBezTo>
                <a:cubicBezTo>
                  <a:pt x="519977" y="4710969"/>
                  <a:pt x="710045" y="5181157"/>
                  <a:pt x="711751" y="5143500"/>
                </a:cubicBezTo>
                <a:cubicBezTo>
                  <a:pt x="1110545" y="6159185"/>
                  <a:pt x="2443158" y="4427802"/>
                  <a:pt x="4358960" y="5860473"/>
                </a:cubicBezTo>
                <a:cubicBezTo>
                  <a:pt x="2956659" y="5324868"/>
                  <a:pt x="3011634" y="5750467"/>
                  <a:pt x="1449506" y="6244937"/>
                </a:cubicBezTo>
                <a:cubicBezTo>
                  <a:pt x="0" y="6458796"/>
                  <a:pt x="303937" y="6736317"/>
                  <a:pt x="140251" y="6878782"/>
                </a:cubicBezTo>
                <a:cubicBezTo>
                  <a:pt x="136787" y="4585855"/>
                  <a:pt x="133324" y="2292927"/>
                  <a:pt x="129860" y="0"/>
                </a:cubicBezTo>
                <a:lnTo>
                  <a:pt x="327287" y="31173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0"/>
          </a:gradFill>
          <a:ln>
            <a:noFill/>
          </a:ln>
          <a:effectLst>
            <a:outerShdw algn="l" blurRad="11448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6" name="Полилиния 4"/>
          <p:cNvSpPr/>
          <p:nvPr/>
        </p:nvSpPr>
        <p:spPr>
          <a:xfrm>
            <a:off x="2909880" y="1143000"/>
            <a:ext cx="1775880" cy="469440"/>
          </a:xfrm>
          <a:custGeom>
            <a:avLst/>
            <a:gdLst>
              <a:gd name="textAreaLeft" fmla="*/ 0 w 1775880"/>
              <a:gd name="textAreaRight" fmla="*/ 1776240 w 177588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776845" h="470187">
                <a:moveTo>
                  <a:pt x="0" y="155416"/>
                </a:moveTo>
                <a:cubicBezTo>
                  <a:pt x="676716" y="0"/>
                  <a:pt x="1184563" y="314743"/>
                  <a:pt x="1776845" y="394407"/>
                </a:cubicBezTo>
                <a:cubicBezTo>
                  <a:pt x="1391949" y="470187"/>
                  <a:pt x="1151229" y="414769"/>
                  <a:pt x="820881" y="352843"/>
                </a:cubicBezTo>
                <a:cubicBezTo>
                  <a:pt x="550915" y="286228"/>
                  <a:pt x="419648" y="241156"/>
                  <a:pt x="0" y="155416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9044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7" name="Полилиния 5"/>
          <p:cNvSpPr/>
          <p:nvPr/>
        </p:nvSpPr>
        <p:spPr>
          <a:xfrm>
            <a:off x="2571840" y="5630760"/>
            <a:ext cx="2133360" cy="8805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80560"/>
              <a:gd name="textAreaBottom" fmla="*/ 880920 h 880560"/>
            </a:gdLst>
            <a:ahLst/>
            <a:rect l="textAreaLeft" t="textAreaTop" r="textAreaRight" b="textAreaBottom"/>
            <a:pathLst>
              <a:path w="2134003" h="881050">
                <a:moveTo>
                  <a:pt x="0" y="668502"/>
                </a:moveTo>
                <a:cubicBezTo>
                  <a:pt x="993657" y="0"/>
                  <a:pt x="993604" y="861554"/>
                  <a:pt x="2134003" y="764593"/>
                </a:cubicBezTo>
                <a:cubicBezTo>
                  <a:pt x="1749107" y="840373"/>
                  <a:pt x="1613630" y="881050"/>
                  <a:pt x="820881" y="723029"/>
                </a:cubicBezTo>
                <a:cubicBezTo>
                  <a:pt x="550915" y="656414"/>
                  <a:pt x="536557" y="549001"/>
                  <a:pt x="0" y="668502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14480" rotWithShape="0" sx="98000" sy="98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68" name="Содержимое 7"/>
          <p:cNvSpPr/>
          <p:nvPr/>
        </p:nvSpPr>
        <p:spPr>
          <a:xfrm>
            <a:off x="457200" y="1600200"/>
            <a:ext cx="8229240" cy="5114520"/>
          </a:xfrm>
          <a:prstGeom prst="rect">
            <a:avLst/>
          </a:prstGeom>
          <a:gradFill rotWithShape="0">
            <a:gsLst>
              <a:gs pos="0">
                <a:srgbClr val="fff200">
                  <a:alpha val="65098"/>
                </a:srgbClr>
              </a:gs>
              <a:gs pos="100000">
                <a:srgbClr val="ff7a00">
                  <a:alpha val="69019"/>
                </a:srgbClr>
              </a:gs>
            </a:gsLst>
            <a:lin ang="5400000"/>
          </a:gradFill>
          <a:ln w="635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ербайджан- родина таких велик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229240" cy="1142640"/>
          </a:xfrm>
          <a:prstGeom prst="rect">
            <a:avLst/>
          </a:prstGeom>
          <a:solidFill>
            <a:srgbClr val="ffffff">
              <a:alpha val="47000"/>
            </a:srgbClr>
          </a:solidFill>
          <a:ln w="6480">
            <a:solidFill>
              <a:srgbClr val="a50021">
                <a:alpha val="52000"/>
              </a:srgbClr>
            </a:solidFill>
            <a:round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d6a100"/>
                </a:solidFill>
                <a:latin typeface="Verdana"/>
              </a:rPr>
              <a:t>Великие люди Азербайджан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\\Ruslan\shareddocs\f\200px-kara_karayev.jpg"/>
          <p:cNvPicPr/>
          <p:nvPr/>
        </p:nvPicPr>
        <p:blipFill>
          <a:blip r:embed="rId1"/>
          <a:srcRect l="0" t="0" r="4430" b="0"/>
          <a:stretch/>
        </p:blipFill>
        <p:spPr>
          <a:xfrm>
            <a:off x="642960" y="2214720"/>
            <a:ext cx="1973520" cy="278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\\Ruslan\shareddocs\f\b_20100316124721vaqif-ic.jpg"/>
          <p:cNvPicPr/>
          <p:nvPr/>
        </p:nvPicPr>
        <p:blipFill>
          <a:blip r:embed="rId2"/>
          <a:srcRect l="5807" t="0" r="6992" b="0"/>
          <a:stretch/>
        </p:blipFill>
        <p:spPr>
          <a:xfrm>
            <a:off x="3071880" y="3071880"/>
            <a:ext cx="2255400" cy="285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\\Ruslan\shareddocs\f\Muslim%20Maqomayev%20vefat%20edib%201.jpg"/>
          <p:cNvPicPr/>
          <p:nvPr/>
        </p:nvPicPr>
        <p:blipFill>
          <a:blip r:embed="rId3"/>
          <a:srcRect l="3156" t="2630" r="5253" b="5260"/>
          <a:stretch/>
        </p:blipFill>
        <p:spPr>
          <a:xfrm>
            <a:off x="6000840" y="3857760"/>
            <a:ext cx="2071440" cy="2499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\\Ruslan\shareddocs\f\b_20100316124721vaqif-ic.jpg"/>
          <p:cNvPicPr/>
          <p:nvPr/>
        </p:nvPicPr>
        <p:blipFill>
          <a:blip r:embed="rId4"/>
          <a:srcRect l="5807" t="0" r="6992" b="0"/>
          <a:stretch/>
        </p:blipFill>
        <p:spPr>
          <a:xfrm>
            <a:off x="3071880" y="3000240"/>
            <a:ext cx="225540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3"/>
          <p:cNvSpPr/>
          <p:nvPr/>
        </p:nvSpPr>
        <p:spPr>
          <a:xfrm>
            <a:off x="-139680" y="-41400"/>
            <a:ext cx="5563800" cy="6878160"/>
          </a:xfrm>
          <a:custGeom>
            <a:avLst/>
            <a:gdLst>
              <a:gd name="textAreaLeft" fmla="*/ 0 w 5563800"/>
              <a:gd name="textAreaRight" fmla="*/ 5564160 w 5563800"/>
              <a:gd name="textAreaTop" fmla="*/ 0 h 6878160"/>
              <a:gd name="textAreaBottom" fmla="*/ 6878520 h 6878160"/>
            </a:gdLst>
            <a:ahLst/>
            <a:rect l="textAreaLeft" t="textAreaTop" r="textAreaRight" b="textAreaBottom"/>
            <a:pathLst>
              <a:path w="5564306" h="6878782">
                <a:moveTo>
                  <a:pt x="327287" y="31173"/>
                </a:moveTo>
                <a:cubicBezTo>
                  <a:pt x="692751" y="1038700"/>
                  <a:pt x="3293482" y="175823"/>
                  <a:pt x="4338178" y="727364"/>
                </a:cubicBezTo>
                <a:cubicBezTo>
                  <a:pt x="2956211" y="379742"/>
                  <a:pt x="1479424" y="1055578"/>
                  <a:pt x="441587" y="904009"/>
                </a:cubicBezTo>
                <a:cubicBezTo>
                  <a:pt x="80534" y="993648"/>
                  <a:pt x="163661" y="1058591"/>
                  <a:pt x="129860" y="1184564"/>
                </a:cubicBezTo>
                <a:cubicBezTo>
                  <a:pt x="369742" y="1755213"/>
                  <a:pt x="2012365" y="663301"/>
                  <a:pt x="3164006" y="1672937"/>
                </a:cubicBezTo>
                <a:cubicBezTo>
                  <a:pt x="1693711" y="935194"/>
                  <a:pt x="1104033" y="2027539"/>
                  <a:pt x="140251" y="1922319"/>
                </a:cubicBezTo>
                <a:lnTo>
                  <a:pt x="129860" y="2441864"/>
                </a:lnTo>
                <a:cubicBezTo>
                  <a:pt x="2389924" y="1394136"/>
                  <a:pt x="3543293" y="2636274"/>
                  <a:pt x="5179842" y="2182091"/>
                </a:cubicBezTo>
                <a:cubicBezTo>
                  <a:pt x="4148989" y="2924628"/>
                  <a:pt x="1271166" y="2022780"/>
                  <a:pt x="1459896" y="2753591"/>
                </a:cubicBezTo>
                <a:cubicBezTo>
                  <a:pt x="1559946" y="3670592"/>
                  <a:pt x="3286104" y="2250932"/>
                  <a:pt x="5200624" y="3532909"/>
                </a:cubicBezTo>
                <a:cubicBezTo>
                  <a:pt x="3208606" y="2804678"/>
                  <a:pt x="2627173" y="3674056"/>
                  <a:pt x="1231296" y="3616037"/>
                </a:cubicBezTo>
                <a:cubicBezTo>
                  <a:pt x="163657" y="3383106"/>
                  <a:pt x="413071" y="3487882"/>
                  <a:pt x="140251" y="3501737"/>
                </a:cubicBezTo>
                <a:lnTo>
                  <a:pt x="119469" y="4177146"/>
                </a:lnTo>
                <a:cubicBezTo>
                  <a:pt x="426486" y="4103967"/>
                  <a:pt x="543791" y="4072366"/>
                  <a:pt x="1480678" y="4156364"/>
                </a:cubicBezTo>
                <a:cubicBezTo>
                  <a:pt x="2841887" y="4253346"/>
                  <a:pt x="3279608" y="5373826"/>
                  <a:pt x="5564306" y="4447309"/>
                </a:cubicBezTo>
                <a:cubicBezTo>
                  <a:pt x="3109890" y="5623639"/>
                  <a:pt x="2876524" y="4578928"/>
                  <a:pt x="1532633" y="4644737"/>
                </a:cubicBezTo>
                <a:cubicBezTo>
                  <a:pt x="519977" y="4710969"/>
                  <a:pt x="710045" y="5181157"/>
                  <a:pt x="711751" y="5143500"/>
                </a:cubicBezTo>
                <a:cubicBezTo>
                  <a:pt x="1110545" y="6159185"/>
                  <a:pt x="2443158" y="4427802"/>
                  <a:pt x="4358960" y="5860473"/>
                </a:cubicBezTo>
                <a:cubicBezTo>
                  <a:pt x="2956659" y="5324868"/>
                  <a:pt x="3011634" y="5750467"/>
                  <a:pt x="1449506" y="6244937"/>
                </a:cubicBezTo>
                <a:cubicBezTo>
                  <a:pt x="0" y="6458796"/>
                  <a:pt x="303937" y="6736317"/>
                  <a:pt x="140251" y="6878782"/>
                </a:cubicBezTo>
                <a:cubicBezTo>
                  <a:pt x="136787" y="4585855"/>
                  <a:pt x="133324" y="2292927"/>
                  <a:pt x="129860" y="0"/>
                </a:cubicBezTo>
                <a:lnTo>
                  <a:pt x="327287" y="31173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0"/>
          </a:gradFill>
          <a:ln>
            <a:noFill/>
          </a:ln>
          <a:effectLst>
            <a:outerShdw algn="l" blurRad="11448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5" name="Полилиния 4"/>
          <p:cNvSpPr/>
          <p:nvPr/>
        </p:nvSpPr>
        <p:spPr>
          <a:xfrm>
            <a:off x="2909880" y="1143000"/>
            <a:ext cx="1775880" cy="469440"/>
          </a:xfrm>
          <a:custGeom>
            <a:avLst/>
            <a:gdLst>
              <a:gd name="textAreaLeft" fmla="*/ 0 w 1775880"/>
              <a:gd name="textAreaRight" fmla="*/ 1776240 w 177588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776845" h="470187">
                <a:moveTo>
                  <a:pt x="0" y="155416"/>
                </a:moveTo>
                <a:cubicBezTo>
                  <a:pt x="676716" y="0"/>
                  <a:pt x="1184563" y="314743"/>
                  <a:pt x="1776845" y="394407"/>
                </a:cubicBezTo>
                <a:cubicBezTo>
                  <a:pt x="1391949" y="470187"/>
                  <a:pt x="1151229" y="414769"/>
                  <a:pt x="820881" y="352843"/>
                </a:cubicBezTo>
                <a:cubicBezTo>
                  <a:pt x="550915" y="286228"/>
                  <a:pt x="419648" y="241156"/>
                  <a:pt x="0" y="155416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90440" rotWithShape="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6" name="Полилиния 5"/>
          <p:cNvSpPr/>
          <p:nvPr/>
        </p:nvSpPr>
        <p:spPr>
          <a:xfrm>
            <a:off x="2571840" y="5630760"/>
            <a:ext cx="2133360" cy="8805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80560"/>
              <a:gd name="textAreaBottom" fmla="*/ 880920 h 880560"/>
            </a:gdLst>
            <a:ahLst/>
            <a:rect l="textAreaLeft" t="textAreaTop" r="textAreaRight" b="textAreaBottom"/>
            <a:pathLst>
              <a:path w="2134003" h="881050">
                <a:moveTo>
                  <a:pt x="0" y="668502"/>
                </a:moveTo>
                <a:cubicBezTo>
                  <a:pt x="993657" y="0"/>
                  <a:pt x="993604" y="861554"/>
                  <a:pt x="2134003" y="764593"/>
                </a:cubicBezTo>
                <a:cubicBezTo>
                  <a:pt x="1749107" y="840373"/>
                  <a:pt x="1613630" y="881050"/>
                  <a:pt x="820881" y="723029"/>
                </a:cubicBezTo>
                <a:cubicBezTo>
                  <a:pt x="550915" y="656414"/>
                  <a:pt x="536557" y="549001"/>
                  <a:pt x="0" y="668502"/>
                </a:cubicBezTo>
                <a:close/>
              </a:path>
            </a:pathLst>
          </a:custGeom>
          <a:gradFill rotWithShape="0">
            <a:gsLst>
              <a:gs pos="0">
                <a:srgbClr val="ff0300"/>
              </a:gs>
              <a:gs pos="100000">
                <a:srgbClr val="4d0808"/>
              </a:gs>
            </a:gsLst>
            <a:lin ang="0"/>
          </a:gradFill>
          <a:ln>
            <a:noFill/>
          </a:ln>
          <a:effectLst>
            <a:outerShdw algn="l" blurRad="114480" rotWithShape="0" sx="98000" sy="98000">
              <a:schemeClr val="bg1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7" name="Содержимое 7"/>
          <p:cNvSpPr/>
          <p:nvPr/>
        </p:nvSpPr>
        <p:spPr>
          <a:xfrm>
            <a:off x="485640" y="1643040"/>
            <a:ext cx="8229240" cy="5257440"/>
          </a:xfrm>
          <a:prstGeom prst="rect">
            <a:avLst/>
          </a:prstGeom>
          <a:gradFill rotWithShape="0">
            <a:gsLst>
              <a:gs pos="0">
                <a:srgbClr val="fff200">
                  <a:alpha val="65098"/>
                </a:srgbClr>
              </a:gs>
              <a:gs pos="100000">
                <a:srgbClr val="ff7a00">
                  <a:alpha val="69019"/>
                </a:srgbClr>
              </a:gs>
            </a:gsLst>
            <a:lin ang="5400000"/>
          </a:gradFill>
          <a:ln w="635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зербайджан- это сокровищница памятников, музеев,таких как  Девичья Башня и комплекс Дворца Ширваншахов в Баку; мавзолеи Момине Хатун и Юсифа ибн Кюсеира, созданные известным зодчим Аджеми представляют собой редкие жемчужины архитектурного искус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solidFill>
            <a:srgbClr val="ffffff">
              <a:alpha val="47000"/>
            </a:srgbClr>
          </a:solidFill>
          <a:ln w="6480">
            <a:solidFill>
              <a:srgbClr val="a50021">
                <a:alpha val="52000"/>
              </a:srgbClr>
            </a:solidFill>
            <a:round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d6a1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d6a100"/>
                </a:solidFill>
                <a:latin typeface="Verdana"/>
              </a:rPr>
              <a:t>Азербайджан сегодня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8" descr="E:\prezentasiya\arxitektura_files\16.jpg"/>
          <p:cNvPicPr/>
          <p:nvPr/>
        </p:nvPicPr>
        <p:blipFill>
          <a:blip r:embed="rId1"/>
          <a:stretch/>
        </p:blipFill>
        <p:spPr>
          <a:xfrm>
            <a:off x="7072200" y="285840"/>
            <a:ext cx="1095120" cy="109512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19" descr="E:\prezentasiya\arxitektura_files\17.jpg"/>
          <p:cNvPicPr/>
          <p:nvPr/>
        </p:nvPicPr>
        <p:blipFill>
          <a:blip r:embed="rId2"/>
          <a:stretch/>
        </p:blipFill>
        <p:spPr>
          <a:xfrm>
            <a:off x="928800" y="285840"/>
            <a:ext cx="1142640" cy="1142640"/>
          </a:xfrm>
          <a:prstGeom prst="rect">
            <a:avLst/>
          </a:prstGeom>
          <a:ln w="9525">
            <a:noFill/>
          </a:ln>
        </p:spPr>
      </p:pic>
      <p:pic>
        <p:nvPicPr>
          <p:cNvPr id="181" name="Picture 19" descr="E:\prezentasiya\baki\8.jpg"/>
          <p:cNvPicPr/>
          <p:nvPr/>
        </p:nvPicPr>
        <p:blipFill>
          <a:blip r:embed="rId3"/>
          <a:stretch/>
        </p:blipFill>
        <p:spPr>
          <a:xfrm>
            <a:off x="725400" y="4000680"/>
            <a:ext cx="2653920" cy="1856880"/>
          </a:xfrm>
          <a:prstGeom prst="rect">
            <a:avLst/>
          </a:prstGeom>
          <a:ln w="9525">
            <a:noFill/>
          </a:ln>
        </p:spPr>
      </p:pic>
      <p:pic>
        <p:nvPicPr>
          <p:cNvPr id="182" name="Picture 20" descr="E:\prezentasiya\baki\1.jpg"/>
          <p:cNvPicPr/>
          <p:nvPr/>
        </p:nvPicPr>
        <p:blipFill>
          <a:blip r:embed="rId4"/>
          <a:stretch/>
        </p:blipFill>
        <p:spPr>
          <a:xfrm>
            <a:off x="5919840" y="4000680"/>
            <a:ext cx="2580840" cy="1807920"/>
          </a:xfrm>
          <a:prstGeom prst="rect">
            <a:avLst/>
          </a:prstGeom>
          <a:ln w="9525">
            <a:noFill/>
          </a:ln>
        </p:spPr>
      </p:pic>
      <p:pic>
        <p:nvPicPr>
          <p:cNvPr id="183" name="Picture 22" descr="D:\disk D\rabociy_stol\Marek\2.BAKU\B32.jpg"/>
          <p:cNvPicPr/>
          <p:nvPr/>
        </p:nvPicPr>
        <p:blipFill>
          <a:blip r:embed="rId5"/>
          <a:stretch/>
        </p:blipFill>
        <p:spPr>
          <a:xfrm>
            <a:off x="3255840" y="4643280"/>
            <a:ext cx="2744280" cy="1856880"/>
          </a:xfrm>
          <a:prstGeom prst="rect">
            <a:avLst/>
          </a:prstGeom>
          <a:ln w="9525">
            <a:noFill/>
          </a:ln>
        </p:spPr>
      </p:pic>
    </p:spTree>
  </p:cSld>
  <p:transition spd="med" advTm="14000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9257"/>
                </a:solidFill>
                <a:latin typeface="Verdana"/>
              </a:rPr>
              <a:t>Янардаг (гора)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002080" cy="533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86560" indent="-286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1" lang="ru-RU" sz="1600" spc="-1" strike="noStrike">
                <a:solidFill>
                  <a:schemeClr val="accent2"/>
                </a:solidFill>
                <a:latin typeface="Verdana"/>
              </a:rPr>
              <a:t>Янардаг</a:t>
            </a:r>
            <a:r>
              <a:rPr b="0" lang="ru-RU" sz="1600" spc="-1" strike="noStrike">
                <a:solidFill>
                  <a:schemeClr val="accent2"/>
                </a:solidFill>
                <a:latin typeface="Verdana"/>
              </a:rPr>
              <a:t> (азерб.</a:t>
            </a:r>
            <a:r>
              <a:rPr b="0" i="1" lang="ru-RU" sz="1600" spc="-1" strike="noStrike">
                <a:solidFill>
                  <a:schemeClr val="accent2"/>
                </a:solidFill>
                <a:latin typeface="Verdana"/>
              </a:rPr>
              <a:t>Yanar Dağ</a:t>
            </a:r>
            <a:r>
              <a:rPr b="0" lang="ru-RU" sz="1600" spc="-1" strike="noStrike">
                <a:solidFill>
                  <a:schemeClr val="accent2"/>
                </a:solidFill>
                <a:latin typeface="Verdana"/>
              </a:rPr>
              <a:t>, горящая гора) — природный вечный огонь, горящий с древнейших времён на склоне холма в Азербайджане.</a:t>
            </a:r>
            <a:endParaRPr b="0" lang="ru-RU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076720" y="1413000"/>
            <a:ext cx="3816000" cy="3027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281"/>
              </a:spcBef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мя примерно десяти метров в ширину идёт вверх с гребня Янардаг — известнякового холма, расположенного недалеко от Баку на Каспийском море Апшеронском полуострове. Сегодня в мире существует небольшое количество таких природных источников сжигания газа, большинство из них находятся в Азербайджане. Природный вечный огонь Янардага обусловлен утечкой горючего природного газа из крупного месторождения под Апшеронским полуостровом. Возгорание этого огня произошло ещё в древности. О нём также сообщал Марко По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0_93662_d3ff91c0_orig-620x465"/>
          <p:cNvPicPr/>
          <p:nvPr/>
        </p:nvPicPr>
        <p:blipFill>
          <a:blip r:embed="rId1"/>
          <a:stretch/>
        </p:blipFill>
        <p:spPr>
          <a:xfrm>
            <a:off x="5508720" y="4221000"/>
            <a:ext cx="3312720" cy="2484000"/>
          </a:xfrm>
          <a:prstGeom prst="rect">
            <a:avLst/>
          </a:prstGeom>
          <a:ln w="9525">
            <a:noFill/>
          </a:ln>
        </p:spPr>
      </p:pic>
      <p:pic>
        <p:nvPicPr>
          <p:cNvPr id="188" name="Picture 6" descr="Yanar_Dag_Flaming_Hillside5"/>
          <p:cNvPicPr/>
          <p:nvPr/>
        </p:nvPicPr>
        <p:blipFill>
          <a:blip r:embed="rId2"/>
          <a:stretch/>
        </p:blipFill>
        <p:spPr>
          <a:xfrm>
            <a:off x="324000" y="1628640"/>
            <a:ext cx="3816000" cy="2863440"/>
          </a:xfrm>
          <a:prstGeom prst="rect">
            <a:avLst/>
          </a:prstGeom>
          <a:ln w="9525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3196</TotalTime>
  <Application>LibreOffice/7.4.7.2$Linux_X86_64 LibreOffice_project/40$Build-2</Application>
  <AppVersion>15.0000</AppVersion>
  <Words>224</Words>
  <Paragraphs>4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7:50:11Z</dcterms:created>
  <dc:creator>Admin</dc:creator>
  <dc:description/>
  <dc:language>en-US</dc:language>
  <cp:lastModifiedBy>1</cp:lastModifiedBy>
  <dcterms:modified xsi:type="dcterms:W3CDTF">2024-12-20T15:41:29Z</dcterms:modified>
  <cp:revision>339</cp:revision>
  <dc:subject/>
  <dc:title>Hot Fi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6</vt:r8>
  </property>
  <property fmtid="{D5CDD505-2E9C-101B-9397-08002B2CF9AE}" pid="6" name="_TemplateID">
    <vt:lpwstr>TC300091001049</vt:lpwstr>
  </property>
</Properties>
</file>