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998-AB47-4EE1-AF9D-A7CBF2EC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339-E13D-4B88-B27C-006296CA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012-D1F5-4447-A32D-DDCCD211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FA8-B8F2-4D23-B38D-429B235D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08F8-7D80-4F72-8D8A-9102C552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4EC-DAF9-43E4-98A6-348E074B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75B4-7304-4CD1-AD20-B8E3821D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964-887F-4719-BCB7-ECF0D696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E277-2CDE-42CF-A27E-DF237CEE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C002-2A26-4A65-B4F4-641F4581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EC1E-8FB7-44AC-ABF7-AA9C69A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260-93F4-4611-ACAD-CAAE19EA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8C51-B1FD-42AA-A60A-B87EB51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724B-99DC-4389-995D-C738DB1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080F-5295-4793-B5D2-0AF735C3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4C55-9231-4532-BC4C-9AB7D603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A715-EC55-424A-A3B9-F841A17D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DB90-9BDA-4D13-A9E5-363CD7B3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C14E-7D8F-4F7E-92C7-D867B27D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6765-0DBC-4CD5-B91A-A098904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4D19-DD96-4FCD-AE6D-AB449DE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9B6D-A09A-4698-88F3-A400B90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6DD-DD4C-4F69-96D3-2EB03C7E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9757-07EF-486C-AC12-19A94404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15F6-BA43-4D29-A275-1AE3C3CE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4F1E-B1CE-4500-A4E3-E2A431B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43CC-FDF9-468D-86AE-01C914AF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5811-A0B1-4C8B-BB71-BDE55DF4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F203-85B7-4E5B-84A0-5FCBEFAE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18D1-A5C4-4E9C-9574-D58C4E53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E2FF1-E39B-4B21-B1FF-E80028F4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5A0F-5F45-4836-BCC4-F3F0F73A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D9A6-3C1B-4F29-A756-8D2AC909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F4A-DC25-4BF0-AFFB-9CF43D44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DB4E-F338-4D37-A026-3A032F8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8BAE9-82D4-4A0E-B329-0BEA5EF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5FF2B-6F64-4437-B70B-51BA6BEE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5DA5-45E8-4136-B74B-BC7565B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31C6-D1A1-4667-AA1C-45580270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B374E-5792-48C6-A0FC-F3F12DE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78297-CA05-4F57-B336-F2946BB8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86B21-D779-4060-964E-D7560F62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A9A4-10AE-409E-AFA0-129A2E0F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AA5E-D7E3-4CE2-AC5E-46D4DE44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009-4A45-4FBC-A165-B415DE81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BF31-ED09-442C-B910-1EA7195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13B72-26D9-43AB-8F78-8FD5CB7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DA014-BA85-4B29-9331-8B37828C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E0B3-CFD4-42B3-A4DC-DE670EA9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C3C0-BF41-42DA-88A9-3856CE83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FF888-56C6-4B27-9F24-28B89A4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6DE6-BAC3-49EC-9C09-278FEE6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DA88-A7B4-44EF-878D-A11F6C9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0821-2F12-42C8-AD09-2C0DA7A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15D89-520E-40BA-B313-FD0013DE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998-095D-4EC4-90BA-F31C2B4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46E7-E056-4056-8A92-E62B122E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3E3-9BF5-4DA5-A553-2DA57493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AD7-75CD-4530-8EA4-CE451D7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D26-4B9F-4B15-8B44-2D5B77E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B4BE-D12E-4A46-9BC1-3084D91492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72B6-0180-4485-A864-FFE94F18DE2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DE0-66BE-4279-B6F3-B8B7B81A99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B094-E553-4A35-A7A9-12AA1AB5C0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FC09-F089-444B-A96F-746D043992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Arial"/>
              </a:rPr>
              <a:t>Бобылева С.В.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Arial"/>
              </a:rPr>
              <a:t>Учитель ТМК ОУ «Хатангская средняя школо-интерна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азвитие ЕНГ на урок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Особенности строения клетки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ставьте  пропущенные  букв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34817"/>
                </a:solidFill>
                <a:latin typeface="Calibri"/>
              </a:rPr>
              <a:t>Понят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34817"/>
                </a:solidFill>
                <a:latin typeface="Calibri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н…ральные  со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гл…вод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Ж…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…кл…иновые кислот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…л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…могл…б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…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неральные со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глевод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Жи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уклеиновые кислот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ел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емоглоб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404640"/>
            <a:ext cx="82915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-логическая схема :   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ещества клетк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неорганические                        органическ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вещества                                 веществ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Line 6"/>
          <p:cNvSpPr/>
          <p:nvPr/>
        </p:nvSpPr>
        <p:spPr>
          <a:xfrm flipH="1">
            <a:off x="2700000" y="227664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7236000" y="3789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372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5148000" y="378936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843280" y="3789360"/>
            <a:ext cx="28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 flipH="1">
            <a:off x="1258920" y="3789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5292720" y="227664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 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Выберите один наиболее правильный ответ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     1. Клетка – это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     A. Мельчайшая частица всего живог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     Б. Мельчайшая частица живого растен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     B. Часть растен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     Г. Искусственно созданная единица для удобства изучения человеком растительного мир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БРЕЙН- РИНГ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5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каким номером изображена растительная клетк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Рисунок 7" descr="30450_640.jpg"/>
          <p:cNvPicPr/>
          <p:nvPr/>
        </p:nvPicPr>
        <p:blipFill>
          <a:blip r:embed="rId1"/>
          <a:stretch/>
        </p:blipFill>
        <p:spPr>
          <a:xfrm>
            <a:off x="1042920" y="1844640"/>
            <a:ext cx="7819920" cy="41306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8"/>
          <p:cNvSpPr/>
          <p:nvPr/>
        </p:nvSpPr>
        <p:spPr>
          <a:xfrm>
            <a:off x="1908000" y="2205000"/>
            <a:ext cx="2448000" cy="28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5508720" y="5445000"/>
            <a:ext cx="3024000" cy="287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1116000" y="5516640"/>
            <a:ext cx="2951280" cy="288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1"/>
          <p:cNvSpPr/>
          <p:nvPr/>
        </p:nvSpPr>
        <p:spPr>
          <a:xfrm>
            <a:off x="5148360" y="2205000"/>
            <a:ext cx="2448000" cy="28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43640" cy="1079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ма: Химический состав клетк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Text Box 179"/>
          <p:cNvSpPr/>
          <p:nvPr/>
        </p:nvSpPr>
        <p:spPr>
          <a:xfrm>
            <a:off x="965520" y="333360"/>
            <a:ext cx="74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щества клетки. Перечислите не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органические вещества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3286080" y="207180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Прямая со стрелкой 8"/>
          <p:cNvCxnSpPr/>
          <p:nvPr/>
        </p:nvCxnSpPr>
        <p:spPr>
          <a:xfrm flipH="1">
            <a:off x="3285360" y="2856600"/>
            <a:ext cx="1143720" cy="6433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1" name="Прямая со стрелкой 10"/>
          <p:cNvCxnSpPr/>
          <p:nvPr/>
        </p:nvCxnSpPr>
        <p:spPr>
          <a:xfrm>
            <a:off x="5500440" y="2928960"/>
            <a:ext cx="857880" cy="6433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62" name="TextBox 12"/>
          <p:cNvSpPr/>
          <p:nvPr/>
        </p:nvSpPr>
        <p:spPr>
          <a:xfrm>
            <a:off x="857160" y="3714840"/>
            <a:ext cx="357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орга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5214960" y="3714840"/>
            <a:ext cx="300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рга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1:39:08Z</dcterms:created>
  <dc:creator>Admin</dc:creator>
  <dc:description/>
  <dc:language>en-US</dc:language>
  <cp:lastModifiedBy>Биология</cp:lastModifiedBy>
  <dcterms:modified xsi:type="dcterms:W3CDTF">2025-03-19T09:25:30Z</dcterms:modified>
  <cp:revision>30</cp:revision>
  <dc:subject/>
  <dc:title>«Особенности строения клетки»</dc:title>
</cp:coreProperties>
</file>